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DC9AC-62E2-4B81-8C8B-7F84C0375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99BCA-5DD5-4A0F-95F2-2C149B628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337F3-7694-457F-8243-FFB20984E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20A38-31E0-4F2E-96A5-FF5886C58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6697B-91FF-479D-9852-01B51F4B3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FA648-EB63-449E-986D-E93968B3C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0F6A8-6F1A-4D72-BC46-6D50F673D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0C3AC-3E4B-4A5B-A129-5324D8453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0C7A8-48DC-4694-9F77-03540ACFA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5650C-7CE1-407A-A4F4-F59DD7514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24DE2-8823-49FF-81EC-AC476371D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FF06D-5068-4F1E-80E2-C65946A11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34A8-1ED5-4678-A38F-438E22097A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YABANCI DİLLER YÜKSEKOKULU</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394400" y="574560"/>
            <a:ext cx="1411560" cy="141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12:03:14Z</dcterms:created>
  <dc:creator>Microsoft Office User</dc:creator>
  <dc:description/>
  <dc:language>en-US</dc:language>
  <cp:lastModifiedBy>Microsoft Office User</cp:lastModifiedBy>
  <dcterms:modified xsi:type="dcterms:W3CDTF">2018-05-11T12:05:09Z</dcterms:modified>
  <cp:revision>1</cp:revision>
  <dc:subject/>
  <dc:title>PowerPoint Presentation</dc:title>
</cp:coreProperties>
</file>