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6BE68-45D4-4F04-9D8A-A82C2F30F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FEF73-BC2E-4AE2-8F8D-C4839C85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8E7AB-014D-49E2-8776-438D02E3C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71A2B-A9D9-4B17-B97D-0D9B72308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463C6-870A-4E2D-8E7F-DD4F4F93E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1DAF2-B79C-43D0-BAFF-852B8611C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7917B-E48E-4557-9113-BBE3FC64A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91B03-E478-4CEA-A52B-9EF3A6124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0030F-08B3-45C2-8071-C20A1E8BF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DFB85-0362-4058-B448-CC7FBAFF7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87959-AEF2-4893-BD79-E2615F69C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6268A-7718-485C-B1B2-819F6B480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51BA-2853-43F1-9AA2-3E5E9F8582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YABANCI DİLLER YÜKSEKOKULU</a:t>
            </a:r>
            <a:endParaRPr b="0" lang="en-US" sz="48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5560" y="568440"/>
            <a:ext cx="119052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12:05:15Z</dcterms:created>
  <dc:creator>Microsoft Office User</dc:creator>
  <dc:description/>
  <dc:language>en-US</dc:language>
  <cp:lastModifiedBy>Microsoft Office User</cp:lastModifiedBy>
  <dcterms:modified xsi:type="dcterms:W3CDTF">2018-05-11T12:08:02Z</dcterms:modified>
  <cp:revision>1</cp:revision>
  <dc:subject/>
  <dc:title>PowerPoint Presentation</dc:title>
</cp:coreProperties>
</file>