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9B8D7-7852-4CB1-A124-8A3C48745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DA56D-5A24-46CB-994B-BBD525E80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B9595-A8AA-4E98-9A7E-E88F74AF6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217FE-CB3F-4BAB-A536-05E3E0927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06A88-6377-4FD8-A084-8EEA68E17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AD759-D388-4EF6-9F8D-98DB8C957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9348F-05D5-4C25-B0D6-2F5C40868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31DF3-85A2-43C8-8E2A-672E4F3A2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4AA90-7488-4107-8C32-B61C329F4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20FBA-44F2-4F55-BAF0-3A5CBCD3D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EAE20-0599-4ECA-9D25-40E47357D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7B97F-4FD0-4E5F-B9B6-1071B57C9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28DF-2C05-41EE-B737-612DC75186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DEVLET TÜRK MUSIKİSİ KONSERVATUVARI</a:t>
            </a:r>
            <a:endParaRPr b="0" lang="en-US" sz="36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78800" y="557280"/>
            <a:ext cx="1201680" cy="1201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11:53:35Z</dcterms:created>
  <dc:creator>Microsoft Office User</dc:creator>
  <dc:description/>
  <dc:language>en-US</dc:language>
  <cp:lastModifiedBy>Microsoft Office User</cp:lastModifiedBy>
  <dcterms:modified xsi:type="dcterms:W3CDTF">2018-05-14T07:45:58Z</dcterms:modified>
  <cp:revision>3</cp:revision>
  <dc:subject/>
  <dc:title>PowerPoint Presentation</dc:title>
</cp:coreProperties>
</file>