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D8E46-FCA8-47EC-A7E1-737253979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138F0-0E02-423D-A564-B52FC7173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E344A-9F70-45EA-89C7-87C848673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16E6E-7D68-403E-8A1E-4AB316A68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0C66-20D4-4357-9D74-BA5B26B4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901C9-FC9F-48BA-B190-507C5ED6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0C9F-1E1A-491A-80D7-D761BC55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785D-1132-4307-8CC4-08881C31B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EE74A-5621-4A77-A9EB-3B41ABF5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4D56-AA9B-4688-8084-F39E3E924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A18B-D143-4DD5-B093-4736F8E27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03CE-ECA0-42D7-BBD2-1D37176DD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BF8D-1141-4003-A9FB-D00CADEAF9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alibri"/>
              </a:rPr>
              <a:t>Moda ve Tasarım Yüksekokulu</a:t>
            </a:r>
            <a:endParaRPr b="0" lang="en-US" sz="2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4" descr=""/>
          <p:cNvPicPr/>
          <p:nvPr/>
        </p:nvPicPr>
        <p:blipFill>
          <a:blip r:embed="rId3"/>
          <a:stretch/>
        </p:blipFill>
        <p:spPr>
          <a:xfrm>
            <a:off x="7515360" y="554040"/>
            <a:ext cx="1209600" cy="12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4T09:50:13Z</dcterms:modified>
  <cp:revision>4</cp:revision>
  <dc:subject/>
  <dc:title>PowerPoint Presentation</dc:title>
</cp:coreProperties>
</file>