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0DBB0-B6F7-4C84-A721-80F0FB63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78870-C7B7-46BE-B4E7-8C9515CF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9379E-9C3A-48E5-BEA3-C9FEFDBA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2AF02-B387-49FC-99F3-EF8D2F40E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A767F-C2EF-42D8-9130-03FB5701E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4F69-77BA-4346-BA00-1F2061E5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F0C2-C9E0-4890-B343-6596BF4B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A435-206E-4E29-9A9A-F82FC4BD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35A6-93ED-449D-9360-6E495505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6325-99B2-4531-A49E-31093D36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5606F-3DD4-4E74-887D-B6FE9BD6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DD89-18DB-4283-AC4D-C7D6539EB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C649-8E05-4392-88B3-A297704363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İZMİR ATATÜRK SAĞLIK YÜKSEKOKULU</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66120" y="530280"/>
            <a:ext cx="1444680" cy="144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7:12:25Z</dcterms:created>
  <dc:creator>Microsoft Office User</dc:creator>
  <dc:description/>
  <dc:language>en-US</dc:language>
  <cp:lastModifiedBy>Microsoft Office User</cp:lastModifiedBy>
  <dcterms:modified xsi:type="dcterms:W3CDTF">2018-05-11T07:15:40Z</dcterms:modified>
  <cp:revision>1</cp:revision>
  <dc:subject/>
  <dc:title>PowerPoint Presentation</dc:title>
</cp:coreProperties>
</file>