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8F76D-AA84-4B5C-B6F2-3502733D9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9D441-2942-44B4-B811-FB92EE806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3AFC4-55BE-4B6B-B2B2-D040F5B6A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DA1A4-380C-4CFE-916F-79AA4B286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F729E-CB2F-4630-8F20-90C9D426F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23F03-6953-4D8B-B780-C17D3B4B5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EB507-071F-4359-9809-D77967911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2B45B-D259-4E4E-98BD-16563C103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A2D04-1E9B-4584-BA0D-E3FAB155C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3B7E8-8FDF-4695-8F56-BA39BFE75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248BE-3DCC-4F59-817A-B9C9D6D5A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662A6-DFA7-4D2E-9B71-28D13716B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83C6-8916-452E-9F1F-7481845D4C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İZMİR ATATÜRK SAĞLIK YÜKSEKOKULU</a:t>
            </a:r>
            <a:endParaRPr b="0" lang="en-US" sz="44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75560" y="552600"/>
            <a:ext cx="119052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1T07:15:53Z</dcterms:created>
  <dc:creator>Microsoft Office User</dc:creator>
  <dc:description/>
  <dc:language>en-US</dc:language>
  <cp:lastModifiedBy>Microsoft Office User</cp:lastModifiedBy>
  <dcterms:modified xsi:type="dcterms:W3CDTF">2018-05-11T07:17:12Z</dcterms:modified>
  <cp:revision>1</cp:revision>
  <dc:subject/>
  <dc:title>PowerPoint Presentation</dc:title>
</cp:coreProperties>
</file>