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4D929-6333-489A-A3DF-0EC1A2AA2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AAAD3-C61B-48EA-9FCF-1F9804C6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07325-4642-45DD-89CA-4B3FE7C32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C620E-EC98-42B0-81CD-3F7D92142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D3779-3FDC-414F-8978-A693A194F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8BB8D-5045-448B-A4CC-584B2553D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85CB2-9CD2-434A-B2AD-214BF7268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76936-7348-447A-BD8A-D387C8C55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10F5-5B9E-4784-8B22-3F6B6DAC0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464D-2660-4788-8E17-233150AD0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84B04-9B7F-4876-89B6-060282680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4995A-CF92-4B61-A470-DB59ADF7D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9205-49B9-4F05-951A-D58126CBAC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URLA MESLEK YÜKSEKOKULU</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24640" y="441360"/>
            <a:ext cx="1411560" cy="141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06:32:58Z</dcterms:created>
  <dc:creator>Microsoft Office User</dc:creator>
  <dc:description/>
  <dc:language>en-US</dc:language>
  <cp:lastModifiedBy>Microsoft Office User</cp:lastModifiedBy>
  <dcterms:modified xsi:type="dcterms:W3CDTF">2018-05-11T06:34:34Z</dcterms:modified>
  <cp:revision>1</cp:revision>
  <dc:subject/>
  <dc:title>PowerPoint Presentation</dc:title>
</cp:coreProperties>
</file>