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F6A1A-254E-4B93-AC10-F9B2ADD05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A4AD8-C32A-40BF-8BCC-78BECDF09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0674D-9293-49D2-A6B2-D5B382FCD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67406-0C23-4EC5-85B6-3C5169754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C4665-7E1C-44A0-807F-1B6A0721C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F8186-7C54-46AE-979D-5A4A251A7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2B712-AFD9-4FE2-BBA4-24FF247BA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9D52C-FD1C-429A-806C-FE88C3208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C1C06-5C69-4F93-81B1-C19E86F60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47F8-FFDF-4D65-8C72-8B8472770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28932-1CF6-40A4-A80F-480687A35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BC9E0-303E-4C21-A3FD-E026AC3CF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B251-F823-455A-AEB7-887B4918E6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URLA MESLEK YÜKSEKOKULU</a:t>
            </a:r>
            <a:endParaRPr b="0" lang="en-US" sz="54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5560" y="528480"/>
            <a:ext cx="1230480" cy="12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6:34:40Z</dcterms:created>
  <dc:creator>Microsoft Office User</dc:creator>
  <dc:description/>
  <dc:language>en-US</dc:language>
  <cp:lastModifiedBy>Microsoft Office User</cp:lastModifiedBy>
  <dcterms:modified xsi:type="dcterms:W3CDTF">2018-05-11T06:36:40Z</dcterms:modified>
  <cp:revision>1</cp:revision>
  <dc:subject/>
  <dc:title>PowerPoint Presentation</dc:title>
</cp:coreProperties>
</file>