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44C23-2929-4FA0-9388-EF063E49F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AD1D0-B1FC-4EC4-9E1F-3C483A0A3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187B5-AC71-485C-AB22-D98EA34CA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FC93A-95BB-4CAE-BADA-730E7D2C8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73C01-C595-4B13-A8DF-A423358DF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E8CED-F309-4AC3-AAF0-6EBD80EE0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81373-990E-4D06-BED6-1D7DC4386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EC692-E9BC-42B9-8D4C-1D03C5CB2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C7F3F-A2EE-4537-A54B-5E2A8C11E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214F2-5BE4-49A5-BE4F-88179F3A5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C2E1C-1AF5-4EC6-AAC8-6A870C778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5A7F7-3E21-4C14-8256-F266AE232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D0BF-E10E-47BE-88A0-0A0FA8DECB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TİRE KUTSAN MESLEK YÜKSEKOKULU</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394400" y="549360"/>
            <a:ext cx="1549440" cy="15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6:22:29Z</dcterms:created>
  <dc:creator>Microsoft Office User</dc:creator>
  <dc:description/>
  <dc:language>en-US</dc:language>
  <cp:lastModifiedBy>Microsoft Office User</cp:lastModifiedBy>
  <dcterms:modified xsi:type="dcterms:W3CDTF">2018-05-11T06:25:05Z</dcterms:modified>
  <cp:revision>1</cp:revision>
  <dc:subject/>
  <dc:title>PowerPoint Presentation</dc:title>
</cp:coreProperties>
</file>