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581C5-E533-4DEF-85CB-F9D28DDF6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911E-6ACE-4FEC-BF4F-BACC31D1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57FC4-9437-4F91-93DC-4820C7CFC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43578-BFBC-4874-B4FD-20915B036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67074-1360-43F1-94F1-FF940F7A5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70D6A-6E78-492B-B6E4-43CB5ADDA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3C7C7-B4B5-49DE-91FC-1740CAA6B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089B6-F532-4055-95A4-C5A8DE675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041D7-E205-46B4-AD1D-C1B2315CC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16F26-4FB9-4216-81E9-5F45AFF9A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A2EE4-274C-4B82-AA61-807F2F6B8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A595A-4790-45B5-BF9D-ED8F592FF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B243-DE17-47DD-85FC-5185D41D22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İRE KUTSAN MESLEK YÜKSEKOKULU</a:t>
            </a:r>
            <a:endParaRPr b="0" lang="en-US" sz="44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24800" y="522360"/>
            <a:ext cx="1292040" cy="129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6:25:09Z</dcterms:created>
  <dc:creator>Microsoft Office User</dc:creator>
  <dc:description/>
  <dc:language>en-US</dc:language>
  <cp:lastModifiedBy>Microsoft Office User</cp:lastModifiedBy>
  <dcterms:modified xsi:type="dcterms:W3CDTF">2018-05-11T06:26:15Z</dcterms:modified>
  <cp:revision>1</cp:revision>
  <dc:subject/>
  <dc:title>PowerPoint Presentation</dc:title>
</cp:coreProperties>
</file>