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A6332-EA4A-4536-AF67-3879DB45B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23B79-5B28-492D-9CB9-44B3F43DF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5ED3D-DB99-4603-B1FC-D10BA19CD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501D0-FA89-4DE6-A13F-367B3CBD8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992A-4B0D-49C2-964B-1A9ECC7A3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25DA-8872-4C80-8783-9C41414F9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6465-1D11-4B86-985E-43A04376F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F6C3-BC48-4A2A-80D3-862C7A11C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7C9BC-9A5F-4F2C-AA84-9356742E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2BA5-271D-41FC-9D71-3DCA1F08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157E-BEE3-44CA-9A6E-3BD8FC69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3712-971B-4CD2-BD3D-12E4461F5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29FB-A5E4-4F7E-B690-7A2AE4EB87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ÖDEMİŞ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27960" y="554040"/>
            <a:ext cx="143028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13:19Z</dcterms:created>
  <dc:creator>Microsoft Office User</dc:creator>
  <dc:description/>
  <dc:language>en-US</dc:language>
  <cp:lastModifiedBy>Microsoft Office User</cp:lastModifiedBy>
  <dcterms:modified xsi:type="dcterms:W3CDTF">2018-05-11T06:14:47Z</dcterms:modified>
  <cp:revision>2</cp:revision>
  <dc:subject/>
  <dc:title>PowerPoint Presentation</dc:title>
</cp:coreProperties>
</file>