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763A8-4C9C-466D-8243-776C1EB4E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51CF1-20D2-4CA2-BE67-43CF6AAE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5CFCA-09E6-41E4-A75B-13FC12883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CE7F1-0E73-4A35-A47B-B814E4F50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C675-62BE-4C82-8DDA-4B11F12E7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2669-7440-4E30-BFB2-2004D4169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C564C-00F4-47AC-9AC9-30447A2A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DB66-BD97-477F-A6A7-82BB5771B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A7716-5002-49EE-894A-69472984F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529D-BFD2-431E-8B3F-1F5318C7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FFF2-333C-46E5-91AC-FB6A607B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4BBC-05A7-4868-A18F-8F8AF6662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EF31-4699-4267-85CE-AA3F73EB60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HAVACILIK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53160" y="477720"/>
            <a:ext cx="1571760" cy="157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04:01Z</dcterms:created>
  <dc:creator>Microsoft Office User</dc:creator>
  <dc:description/>
  <dc:language>en-US</dc:language>
  <cp:lastModifiedBy>Microsoft Office User</cp:lastModifiedBy>
  <dcterms:modified xsi:type="dcterms:W3CDTF">2018-05-11T06:04:56Z</dcterms:modified>
  <cp:revision>1</cp:revision>
  <dc:subject/>
  <dc:title>PowerPoint Presentation</dc:title>
</cp:coreProperties>
</file>