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45B06-6D47-436E-BD3C-EF2DFAE96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F4080-1AAB-41C7-A88B-F5668198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C4E27-9F9E-40C9-AFCA-5DDBDD424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A99C2-B8B5-44D5-BDA5-1A6F7324A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0A93A-BD19-47FB-B5BF-A29F6F014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EB0D4-3D0A-4BA9-91F8-3FD89221D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9789-288B-472D-8895-6F0BBF56A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174B-DA33-42D8-A513-04AAA494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E7EC-FA36-453A-9186-21D87B02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CDAC-E67F-45E0-AD2A-67E506A08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70C8-7FF4-465D-8F87-F472C02F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FE6D-AD74-4BBA-8D8B-52FD0295A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10C1-4F1E-4521-9CB1-7EA0D084F9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AVACILIK MESLEK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353360" y="382680"/>
            <a:ext cx="13716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01:13Z</dcterms:created>
  <dc:creator>Microsoft Office User</dc:creator>
  <dc:description/>
  <dc:language>en-US</dc:language>
  <cp:lastModifiedBy>Microsoft Office User</cp:lastModifiedBy>
  <dcterms:modified xsi:type="dcterms:W3CDTF">2018-05-11T06:03:16Z</dcterms:modified>
  <cp:revision>1</cp:revision>
  <dc:subject/>
  <dc:title>PowerPoint Presentation</dc:title>
</cp:coreProperties>
</file>