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F86FC-DD92-49F8-991A-5CA9A2DF6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111F3-C61C-4111-98BB-99FF0459E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FAAB1-3A39-4883-836B-245052670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B350F-719C-4DBE-A3BE-C813A4CF8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04BFC-2445-4F80-B63E-F93AADED4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8129C-1EFD-4333-9B24-31E4F3AC3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F9394-898A-4E1D-8CC6-2198B1EF6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5762C-A88A-4179-BA49-D382239D2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55EFE-2CAB-46E9-9FE8-CEE2E878F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E02CB-69BB-4778-ABA7-FF617E71D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F66AF-CBAE-4445-8B65-C0E1B23F5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F20D8-996F-437D-8F7F-AA33775F5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009B-1BEB-4EF9-A1D7-146CFA37E7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EMEL AKIN MESLEK YÜKSEKOKULU</a:t>
            </a:r>
            <a:endParaRPr b="0" lang="en-US" sz="48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5560" y="434880"/>
            <a:ext cx="1236600" cy="123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5:42:21Z</dcterms:created>
  <dc:creator>Microsoft Office User</dc:creator>
  <dc:description/>
  <dc:language>en-US</dc:language>
  <cp:lastModifiedBy>Microsoft Office User</cp:lastModifiedBy>
  <dcterms:modified xsi:type="dcterms:W3CDTF">2018-05-11T05:44:17Z</dcterms:modified>
  <cp:revision>1</cp:revision>
  <dc:subject/>
  <dc:title>PowerPoint Presentation</dc:title>
</cp:coreProperties>
</file>