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AF6CD-8BE5-4A6E-B7B6-F023B6C06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52AED-F03B-4359-A534-BA86C07D6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8DC8B-E8A3-4F87-881A-61A96EC4D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4097F-38DF-491C-8BB2-34B5C184F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EA2EF-F876-4C15-936D-FD826D0A7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F0426-04DB-41BF-8AE4-57BDEB5B5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BD9BC-2D53-4677-AA6D-0DCB9DF40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1F040-F262-437E-9727-28DCE7CD8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013CB-5410-4D9D-9FCD-8F309DBDB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97725-A293-4712-8CEC-E658BBFA1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CEAD-0F1D-4425-99E9-F9E0363C3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2BCA-3684-46A8-9226-79A6A05B5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63CD-6D7F-4C6B-A16D-B258F705C2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MEL AKIN MESLEK YÜKSEKOKULU</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5" descr=""/>
          <p:cNvPicPr/>
          <p:nvPr/>
        </p:nvPicPr>
        <p:blipFill>
          <a:blip r:embed="rId3"/>
          <a:stretch/>
        </p:blipFill>
        <p:spPr>
          <a:xfrm>
            <a:off x="7604280" y="460440"/>
            <a:ext cx="1398600" cy="13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5:39:44Z</dcterms:created>
  <dc:creator>Microsoft Office User</dc:creator>
  <dc:description/>
  <dc:language>en-US</dc:language>
  <cp:lastModifiedBy>Microsoft Office User</cp:lastModifiedBy>
  <dcterms:modified xsi:type="dcterms:W3CDTF">2018-05-11T05:42:06Z</dcterms:modified>
  <cp:revision>1</cp:revision>
  <dc:subject/>
  <dc:title>PowerPoint Presentation</dc:title>
</cp:coreProperties>
</file>