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58ABA-B47D-41BD-8318-60BE458DC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FBEE3-9F6B-430D-B36E-E476FA25B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EF91ED-FB61-484C-83A9-358CFB9DB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AAEA32-7372-46C8-9091-251A36640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6F88D-1016-4E22-8477-7D3CFD034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5C2F8-C276-446D-89B8-FA82A2EC7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45F42-FA68-4A6F-9536-F517A5613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ED33C-4600-48F8-84D3-65C8E28DD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E19D9-BC6F-495B-BF1A-DC96CB055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BB02B-B129-4C24-8006-F7C2BD101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43027-14A9-42B2-A8DE-0DA598D9A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D6B45-BCA5-41BE-8C92-E91EFE073F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97BA3-A84A-4AFA-AB76-4C1DDA8A1F8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EGE MESLEK YÜKSEKOKULU</a:t>
            </a:r>
            <a:endParaRPr b="0" lang="en-US" sz="54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59040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1" name="Picture 1" descr=""/>
          <p:cNvPicPr/>
          <p:nvPr/>
        </p:nvPicPr>
        <p:blipFill>
          <a:blip r:embed="rId3"/>
          <a:stretch/>
        </p:blipFill>
        <p:spPr>
          <a:xfrm>
            <a:off x="7656480" y="554040"/>
            <a:ext cx="1228680" cy="1228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3:42:50Z</dcterms:created>
  <dc:creator>Microsoft Office User</dc:creator>
  <dc:description/>
  <dc:language>en-US</dc:language>
  <cp:lastModifiedBy>Microsoft Office User</cp:lastModifiedBy>
  <dcterms:modified xsi:type="dcterms:W3CDTF">2018-05-08T13:44:04Z</dcterms:modified>
  <cp:revision>1</cp:revision>
  <dc:subject/>
  <dc:title>PowerPoint Presentation</dc:title>
</cp:coreProperties>
</file>