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541AA-5A03-401C-A3A3-F80194D31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A08BB-AEE7-4C85-8FA0-3A488AE7C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0C0EE-E5CD-4671-880C-D93A92C26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E3524-7CDA-4DDA-A8A8-78F6117D4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E5C4E-4908-4D66-91A7-6C71D9CFC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346DD-5727-45CC-871E-71901E7D0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8A6A8-2650-41FF-8066-9508F7B13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62843-675B-4A01-AB1A-37A45B4F4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95EDC-CFA8-424E-A051-D52B213AD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4DFDC-2F7A-4E3D-B876-48E94F951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28958-BD2E-496E-BF6E-C4ED37F46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F70F5-88ED-450D-899D-F48B08D05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4395-7E56-44E1-B9CF-AFBB894CAA2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BERGAMA MESLEK YÜKSEKOKULU</a:t>
            </a:r>
            <a:endParaRPr b="0" lang="en-US" sz="48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12200" y="498600"/>
            <a:ext cx="1317600" cy="131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3:28:58Z</dcterms:created>
  <dc:creator>Microsoft Office User</dc:creator>
  <dc:description/>
  <dc:language>en-US</dc:language>
  <cp:lastModifiedBy>Microsoft Office User</cp:lastModifiedBy>
  <dcterms:modified xsi:type="dcterms:W3CDTF">2018-05-08T13:30:36Z</dcterms:modified>
  <cp:revision>1</cp:revision>
  <dc:subject/>
  <dc:title>PowerPoint Presentation</dc:title>
</cp:coreProperties>
</file>