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C639B-DAC1-4BB6-B3DB-F81D43D5A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37B0-EDE5-4CF0-A031-3DF07ADE1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CAD2F-BDB1-42E2-97B7-DBD513750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A0C3D-7D0F-45A4-8352-AE461A3A1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795A-900A-4BC1-AF51-E4D2EC54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99CE-BF80-47DF-AA48-95638FAC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F48E6-93F7-4069-9FA2-FB54F993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C7D1-DF42-4971-8CDF-1FD58694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BD79-E98D-4148-B988-CA79C762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F7A1-2BBC-4C9B-8CAE-AF1C0128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7654-7F91-4FB7-BAC8-61236A6E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11E7-1633-4DC4-A041-D28A86B5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A9E5-FDF6-4F6E-9F84-D4B06A87D2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BERGAMA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385040" y="498600"/>
            <a:ext cx="151920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26:12Z</dcterms:created>
  <dc:creator>Microsoft Office User</dc:creator>
  <dc:description/>
  <dc:language>en-US</dc:language>
  <cp:lastModifiedBy>Microsoft Office User</cp:lastModifiedBy>
  <dcterms:modified xsi:type="dcterms:W3CDTF">2018-05-08T13:28:53Z</dcterms:modified>
  <cp:revision>1</cp:revision>
  <dc:subject/>
  <dc:title>PowerPoint Presentation</dc:title>
</cp:coreProperties>
</file>