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03E15-79B0-4A9F-8465-783A71AA0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1341-1125-4452-BC2B-2BD5BECED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90B5F-4F68-4BB3-BD1F-78AA6C16A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6283-E062-473B-9C75-094AC3292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199D-2009-456C-B940-3509F9AF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13C3B-31A9-4914-8948-AD503FD2B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C080-FD46-4DD3-9D37-43E244F3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6D49-9E32-45B9-8474-184BEB65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5404-3001-4FF0-8336-40A2B6E93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D9D5-F668-456E-A944-59DB4A08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F2D8-3825-44B4-873D-FFF4BA7F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531E-35E0-442B-BF54-6F88E3CD9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6405-8201-4308-BB83-59E1F71130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BAYINDIR MESLEK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734240" y="687240"/>
            <a:ext cx="1073160" cy="10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12:54Z</dcterms:created>
  <dc:creator>Microsoft Office User</dc:creator>
  <dc:description/>
  <dc:language>en-US</dc:language>
  <cp:lastModifiedBy>Microsoft Office User</cp:lastModifiedBy>
  <dcterms:modified xsi:type="dcterms:W3CDTF">2018-05-08T13:14:47Z</dcterms:modified>
  <cp:revision>1</cp:revision>
  <dc:subject/>
  <dc:title>PowerPoint Presentation</dc:title>
</cp:coreProperties>
</file>