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5C221-3EDF-4065-9E35-43D437B95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9BCA1-5FA7-4551-902F-828FE6067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6E449-8457-43D1-B53A-8996AC043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E2725-BA74-4449-A7FA-4F4DF4D58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0707E-F5D0-4886-85D5-B7A588A0B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5A43C-CC9B-408C-A78F-E97F97A57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595C4-5D2E-4017-9B5E-BEA55F0FF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8B30E-9F25-47E2-A89C-B6905CA7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8A35F-C44D-4A5A-9BCE-54A7A2472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C659F-3FFB-48C3-9D1F-F3E57560E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24862-2F8A-40C9-B184-56BA3B211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256AF-999B-4FCC-A067-9D1740774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D64F-86C3-491A-BB4F-045CCA1D01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BAYINDIR MESLEK YÜKSEKOKULU</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50200" y="544680"/>
            <a:ext cx="13698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3:10:48Z</dcterms:created>
  <dc:creator>Microsoft Office User</dc:creator>
  <dc:description/>
  <dc:language>en-US</dc:language>
  <cp:lastModifiedBy>Microsoft Office User</cp:lastModifiedBy>
  <dcterms:modified xsi:type="dcterms:W3CDTF">2018-05-08T13:12:40Z</dcterms:modified>
  <cp:revision>1</cp:revision>
  <dc:subject/>
  <dc:title>PowerPoint Presentation</dc:title>
</cp:coreProperties>
</file>