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3D365-6606-41C9-A86A-962F4D8E4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E09EB-53D5-4A6B-BD48-F4F15F5DA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027D7-6280-46FC-8790-D197B8381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90316-D6DE-4C9E-9E5E-55D16FA44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16697-35A2-455A-AEBB-9F1FFD9B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5A5B3-F6B1-4A73-A45E-878C4651C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9C5C0-1C9F-4697-BC65-C53381C94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412BA-1AD4-4DC4-B86A-A63E8D827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CEE1A-B18A-46C2-B37B-F6A5B125D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0CB28-B2D4-48C3-84DB-BEB378485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0A3E0-8D94-4D9E-8BD9-DA74C3DC0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D6AD0-0FD2-4229-8DBA-D09FAE6EA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C97E-42DE-4F52-8290-103F1B4450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ATATÜRK SAĞLIK HİZMETLERİ</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MESLEK YÜKSEKOKULU</a:t>
            </a:r>
            <a:endParaRPr b="0" lang="en-US" sz="4000" spc="-1" strike="noStrike">
              <a:solidFill>
                <a:srgbClr val="000000"/>
              </a:solidFill>
              <a:latin typeface="Calibri"/>
            </a:endParaRPr>
          </a:p>
        </p:txBody>
      </p:sp>
      <p:sp>
        <p:nvSpPr>
          <p:cNvPr id="43" name="TextBox 9"/>
          <p:cNvSpPr/>
          <p:nvPr/>
        </p:nvSpPr>
        <p:spPr>
          <a:xfrm>
            <a:off x="1795320" y="3763800"/>
            <a:ext cx="590724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7000" y="554040"/>
            <a:ext cx="1211400" cy="12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2:59:08Z</dcterms:created>
  <dc:creator>Microsoft Office User</dc:creator>
  <dc:description/>
  <dc:language>en-US</dc:language>
  <cp:lastModifiedBy>Microsoft Office User</cp:lastModifiedBy>
  <dcterms:modified xsi:type="dcterms:W3CDTF">2018-05-14T07:35:29Z</dcterms:modified>
  <cp:revision>2</cp:revision>
  <dc:subject/>
  <dc:title>PowerPoint Presentation</dc:title>
</cp:coreProperties>
</file>