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5D1BF-54F4-4D43-9A65-B9AEF14C4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B0C0B-0AA6-47C1-9298-54CEED800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905C1-09A0-493A-AC5A-9B21569E3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7A40B-5661-4B0F-A501-CA50AFF87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A388D-F8DC-4499-9A3B-E087AF0E1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A6DC0-50F5-43E8-A8F7-348D9653B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30C68-C736-4E07-BABC-31C5DC793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F6583-0DD2-4059-A700-567ABCC4C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27268-5869-47DE-9BDC-BA9BC0A2E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ADC4C-4D57-4AF8-B3EC-942D8D783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0668D-901A-4223-A7E0-6A42BC4A4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28635-27F1-45CC-8A4E-0D8F0A730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04B5-B122-48DC-83D0-1F657D23AD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68436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ATATÜRK SAĞLIK HİZMETLER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MESLEK YÜKSEKOKULU</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567560" y="554040"/>
            <a:ext cx="1405080" cy="14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2:58:32Z</dcterms:created>
  <dc:creator>Microsoft Office User</dc:creator>
  <dc:description/>
  <dc:language>en-US</dc:language>
  <cp:lastModifiedBy>Microsoft Office User</cp:lastModifiedBy>
  <dcterms:modified xsi:type="dcterms:W3CDTF">2018-05-14T07:35:04Z</dcterms:modified>
  <cp:revision>2</cp:revision>
  <dc:subject/>
  <dc:title>PowerPoint Presentation</dc:title>
</cp:coreProperties>
</file>