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F284E-E890-42E5-87B6-3BED6A048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8D74E-07FF-4378-9DBA-ED0A2222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7FD8F-136D-4A5B-873F-8836ECC06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8457-C901-4C5C-969D-2C22F3B7B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799A-1573-4D4B-9304-167D72E15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FFBEB-B147-44D5-BAD3-798873DF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B14A2-A5AC-4B9C-9034-081918155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AC03D-5C8E-4403-8249-B69D19CB8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C1949-B86C-462A-A4E2-805F9BC79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D729-571B-497E-9C7F-2AA92337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7DA46-7576-4FC1-85A5-24231807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F0A2C-AC3F-43B7-884A-E2D07DF66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917E-0E1F-48D9-84D6-D3835CF569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LİAĞA MESLEK YÜKSEKOKULU</a:t>
            </a:r>
            <a:endParaRPr b="0" lang="en-US" sz="48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5560" y="573120"/>
            <a:ext cx="119052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20:51Z</dcterms:created>
  <dc:creator>Microsoft Office User</dc:creator>
  <dc:description/>
  <dc:language>en-US</dc:language>
  <cp:lastModifiedBy>Microsoft Office User</cp:lastModifiedBy>
  <dcterms:modified xsi:type="dcterms:W3CDTF">2018-05-08T12:22:34Z</dcterms:modified>
  <cp:revision>1</cp:revision>
  <dc:subject/>
  <dc:title>PowerPoint Presentation</dc:title>
</cp:coreProperties>
</file>