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C6748-D27E-4E28-BFA0-F41F4C308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CFB6B-B447-4ACB-BAB1-AB3E419CE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D613A-AE4B-4C1C-BAA9-5F9E87B1B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229C3-BAE8-4BAC-BD39-F008A732A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12226-21FB-4552-B34E-B25A6BE76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52F96-4BE7-41DB-A429-8CE651FA0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E321D-A8F7-4AD7-B832-B1A209B4B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A0DEE-1B54-4251-83A4-13FD5223F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D31CF-0D1E-47A8-A27E-45F905ED5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D9F6D-A30C-4A09-9091-317B46FD5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451A1-BAA8-45F0-BB4E-7E68ACC73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E803A-82C3-49F9-87A8-906D78ABD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FB29-F103-4A9B-9796-8725CB0B71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ALİAĞA MESLEK YÜKSEKOKULU</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418520" y="438120"/>
            <a:ext cx="1422360" cy="142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2:14:26Z</dcterms:created>
  <dc:creator>Microsoft Office User</dc:creator>
  <dc:description/>
  <dc:language>en-US</dc:language>
  <cp:lastModifiedBy>Microsoft Office User</cp:lastModifiedBy>
  <dcterms:modified xsi:type="dcterms:W3CDTF">2018-05-08T12:20:44Z</dcterms:modified>
  <cp:revision>1</cp:revision>
  <dc:subject/>
  <dc:title>PowerPoint Presentation</dc:title>
</cp:coreProperties>
</file>