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52AE2-AB62-4720-A4AC-76DC2F331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1BEF0-BC7D-493F-9C42-E1E92181C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C706C-5D4C-4F67-9746-60B9B7760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6307B-C775-4C04-ACDD-19999FD6B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51E2B-EFD0-4112-84BE-4551808DF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A2012-D13D-4346-A746-09425A06D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D22FF-D985-4CF8-AC71-232330DF7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35704-7A7F-4B12-B6DC-2780D6592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03D74-F14E-44BA-AD12-A9A396176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E0177-6007-4799-B0F5-C03AF2438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8960D-E01E-4F26-BEE4-209DB1B83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0BFDB-2C64-447E-8DC8-BC4D6BB23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92B0-6C82-4454-A28C-49901775263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TIP FAKÜLTESİ</a:t>
            </a:r>
            <a:endParaRPr b="0" lang="en-US" sz="28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416720" y="471600"/>
            <a:ext cx="1398600" cy="139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37:09Z</dcterms:created>
  <dc:creator>Microsoft Office User</dc:creator>
  <dc:description/>
  <dc:language>en-US</dc:language>
  <cp:lastModifiedBy>Microsoft Office User</cp:lastModifiedBy>
  <dcterms:modified xsi:type="dcterms:W3CDTF">2018-05-08T11:38:43Z</dcterms:modified>
  <cp:revision>1</cp:revision>
  <dc:subject/>
  <dc:title>PowerPoint Presentation</dc:title>
</cp:coreProperties>
</file>