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629E4-55B4-4C97-B7C0-39700BE01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CD87D-5C2B-46E9-A890-731523F15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55039-1D76-46A7-B2B6-F1424813D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39F2E-FC0A-4FD7-97F2-E8E7D2757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D1464-35FB-46A8-B1CB-5B9E3DF78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6BD26-938A-4C40-AA37-56C23FBB6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D1705-D64E-4CAA-A271-F38C00091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80960-103C-432D-B169-05399E6A2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DA1E6-63E2-4347-9B99-64978A283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72719-B021-4048-8645-00DA4C8D4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CF24A-8951-4D1F-B6CC-43B7F5528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7A958-E933-4668-95E8-D2825AE36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8E409-5325-4F63-AB30-D21434CEB7E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GE ÜNİVERSİT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SU ÜRÜNLERİ</a:t>
            </a:r>
            <a:r>
              <a:rPr b="1" lang="tr-TR" sz="2800" spc="-1" strike="noStrike">
                <a:solidFill>
                  <a:srgbClr val="203864"/>
                </a:solidFill>
                <a:latin typeface="Calibri"/>
              </a:rPr>
              <a:t> </a:t>
            </a:r>
            <a:r>
              <a:rPr b="1" lang="en-US" sz="2800" spc="-1" strike="noStrike">
                <a:solidFill>
                  <a:srgbClr val="203864"/>
                </a:solidFill>
                <a:latin typeface="Calibri"/>
              </a:rPr>
              <a:t>FAKÜLTESİ</a:t>
            </a:r>
            <a:endParaRPr b="0" lang="en-US" sz="28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 descr=""/>
          <p:cNvPicPr/>
          <p:nvPr/>
        </p:nvPicPr>
        <p:blipFill>
          <a:blip r:embed="rId3"/>
          <a:stretch/>
        </p:blipFill>
        <p:spPr>
          <a:xfrm>
            <a:off x="7545240" y="471600"/>
            <a:ext cx="1575000" cy="157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1:25:00Z</dcterms:created>
  <dc:creator>Microsoft Office User</dc:creator>
  <dc:description/>
  <dc:language>en-US</dc:language>
  <cp:lastModifiedBy>Microsoft Office User</cp:lastModifiedBy>
  <dcterms:modified xsi:type="dcterms:W3CDTF">2018-08-10T07:03:59Z</dcterms:modified>
  <cp:revision>2</cp:revision>
  <dc:subject/>
  <dc:title>PowerPoint Presentation</dc:title>
</cp:coreProperties>
</file>