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E73B3-3E34-4D09-AE9C-16D9208F5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F6B43-FFBE-4478-9894-E91025FD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C5296-D0A4-40B6-AE39-7B1ABCD92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A2FA3-4923-4821-B298-E54CD96DC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3ED5-56DC-402E-88DA-158E1E8FE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A4B2A-27E4-43DD-86AC-6B344B4AE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CDC6-62C4-4822-AA1F-8E6718307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FF60-5823-453C-84AA-8F21CB841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120E6-88DD-4E32-A5FF-01144443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23F9-3E7F-42D4-89AF-7D4B5744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CC07-A126-4D6F-A390-272A6A71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C414-0D3A-4B30-8819-BFFCC047D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7124-138F-4D53-9525-F48DB2D686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SU ÜRÜNLERİ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2" descr=""/>
          <p:cNvPicPr/>
          <p:nvPr/>
        </p:nvPicPr>
        <p:blipFill>
          <a:blip r:embed="rId3"/>
          <a:stretch/>
        </p:blipFill>
        <p:spPr>
          <a:xfrm>
            <a:off x="7842240" y="426960"/>
            <a:ext cx="1397160" cy="13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26:47Z</dcterms:created>
  <dc:creator>Microsoft Office User</dc:creator>
  <dc:description/>
  <dc:language>en-US</dc:language>
  <cp:lastModifiedBy>Microsoft Office User</cp:lastModifiedBy>
  <dcterms:modified xsi:type="dcterms:W3CDTF">2018-08-10T07:04:35Z</dcterms:modified>
  <cp:revision>3</cp:revision>
  <dc:subject/>
  <dc:title>PowerPoint Presentation</dc:title>
</cp:coreProperties>
</file>