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2BB9F-1E4E-4C0F-B457-1584959C4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E6641-4B50-4F3F-A3D9-1F171D92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BEF6B-2923-41FB-8E10-B1009D1B4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41025-8AE9-407A-931C-2AC112D6E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7D18B-B944-44F8-A662-F730716DF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6730-B12A-4D97-8E62-BD55F469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889D-0767-4739-8167-E456969C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B38A-12C5-4536-9A13-B87CEA37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C7BF-17D1-4F9C-BFD9-99549B8D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3F99B-862C-4582-A973-904E65DFB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DF27-20BB-42C8-808A-C76F65CE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5887-314C-4796-A20A-A0D8EFD86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0C28-68CC-4347-8EBC-C93FBC6AB4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ÖDEMİŞ SAĞLIK BİLİMLERİ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772400" y="492120"/>
            <a:ext cx="1306440" cy="130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3-09-15T06:50:55Z</dcterms:modified>
  <cp:revision>3</cp:revision>
  <dc:subject/>
  <dc:title>PowerPoint Presentation</dc:title>
</cp:coreProperties>
</file>