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1BA96-2F67-477E-84C6-188D96B03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56A22-D064-4A73-9041-2AED8F7DD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E8DF7-DDDF-4F5E-897F-643121565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7F63C-A062-4576-9710-352329F7D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672BA-E24B-4F24-A68A-5BCB052E3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CE6E2-7D07-453B-AE85-ADC1A0C19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ADBC3-1F6F-4588-ADAF-F7F906EBD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D179B-D79E-4314-92B3-5F7AA6D47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854D8-E97A-4C8E-A47A-5842CB9BB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08105-4E4D-4684-A4A8-A86031373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8AB5B-1001-45FF-8AB7-07EF52A62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C75C7-CC14-45BB-A34D-3851B058B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ADEC6-7CE6-4F5E-8EC8-1A3F56C6061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 ÜNİVERSİTESİ</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203864"/>
                </a:solidFill>
                <a:latin typeface="Calibri"/>
              </a:rPr>
              <a:t>ÖDEMİŞ SAĞLIK BİLİMLERİ FAKÜLTESİ</a:t>
            </a:r>
            <a:endParaRPr b="0" lang="en-US" sz="24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Resim 1" descr=""/>
          <p:cNvPicPr/>
          <p:nvPr/>
        </p:nvPicPr>
        <p:blipFill>
          <a:blip r:embed="rId3"/>
          <a:stretch/>
        </p:blipFill>
        <p:spPr>
          <a:xfrm>
            <a:off x="7423200" y="519120"/>
            <a:ext cx="1503360" cy="150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rafikER</cp:lastModifiedBy>
  <dcterms:modified xsi:type="dcterms:W3CDTF">2023-09-15T06:52:29Z</dcterms:modified>
  <cp:revision>3</cp:revision>
  <dc:subject/>
  <dc:title>PowerPoint Presentation</dc:title>
</cp:coreProperties>
</file>