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277BD-BC76-43FD-8824-05BD9488E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2402F-4AC6-49F1-B7D7-F16D3E1B2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4B25-6F84-4318-BE13-D11075F9E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FEC17-F349-4C11-AFA4-0C456E16B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2E84E-14A3-4B96-AD53-D2861FD4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B5FD3-BFFF-4D46-9D7B-9EACC3AA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D5D7-FE1E-4148-928A-E4FC6014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3707E-B108-4D38-B2B0-685FB9B28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3A0CF-0887-48CC-A446-9F04E8BF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A57C-2731-40D4-A21C-F779BC322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B9B08-F290-496C-859B-686D198E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607D-CDE5-46F4-B67B-0FF014692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86D3-D27C-4FEE-AB65-648A8059B0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MÜHENDİSLİK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613640" y="550800"/>
            <a:ext cx="1398600" cy="13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14:32Z</dcterms:created>
  <dc:creator>Microsoft Office User</dc:creator>
  <dc:description/>
  <dc:language>en-US</dc:language>
  <cp:lastModifiedBy>Microsoft Office User</cp:lastModifiedBy>
  <dcterms:modified xsi:type="dcterms:W3CDTF">2018-05-08T11:16:25Z</dcterms:modified>
  <cp:revision>1</cp:revision>
  <dc:subject/>
  <dc:title>PowerPoint Presentation</dc:title>
</cp:coreProperties>
</file>