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18CE7-EE24-421A-B458-FCC353CB3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14F36-4F4C-48FD-A29E-F85D5DB38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09578-A18C-4AAB-9562-BA88E5C62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7B350-18DD-4737-8195-C5EDA5A79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4A0C-F4C3-4AE6-9BE6-FC6E12AF1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EC3D8-9531-4079-AEFF-34E2F6D18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838A6-D06F-4004-B10F-F99DB7AF6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202F4-C0D7-43B4-A23A-800C51744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F3817-7797-47A6-A21B-66F4D84D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BCF0-7DC9-4473-A095-4F33C4314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E227C-55BF-43F5-8B8F-77D12D406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8EEB-8B02-43AD-8220-008416805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75B3-2D57-418B-BDC4-C00C0AAE1B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HUKUK FAKÜLTES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1" descr=""/>
          <p:cNvPicPr/>
          <p:nvPr/>
        </p:nvPicPr>
        <p:blipFill>
          <a:blip r:embed="rId3"/>
          <a:stretch/>
        </p:blipFill>
        <p:spPr>
          <a:xfrm>
            <a:off x="7650000" y="399960"/>
            <a:ext cx="1544760" cy="15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rafikER</cp:lastModifiedBy>
  <dcterms:modified xsi:type="dcterms:W3CDTF">2023-09-15T07:36:50Z</dcterms:modified>
  <cp:revision>5</cp:revision>
  <dc:subject/>
  <dc:title>PowerPoint Presentation</dc:title>
</cp:coreProperties>
</file>