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CA5A1-3F7F-4CC4-B034-C077C2B91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7E77D-D119-48F6-BCDE-0620AC7A3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59C09-6B1C-4391-9313-DBDDC4A5D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C40D6-8A26-49E4-A0A1-481B0707B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169A1-580C-4472-966F-1606AC1F0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FFEC4-7CAE-44A7-89CB-EB795D24E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80120-2D19-4794-B816-F30BF738F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2ED1B-FB96-410A-A938-2C4573995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822AA-1C3E-4042-A36E-95EF102F4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3606-E3E9-416F-84B8-B109C07FD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61A0-D2C1-43FC-BC6F-C9C8B2F7D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969F5-BE8A-49F1-A6B0-2D5F53FD2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7373-9D9A-4838-B887-4716BA3DCC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03864"/>
                </a:solidFill>
                <a:latin typeface="Calibri"/>
              </a:rPr>
              <a:t>HUKUK FAKÜLTESİ</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1" descr=""/>
          <p:cNvPicPr/>
          <p:nvPr/>
        </p:nvPicPr>
        <p:blipFill>
          <a:blip r:embed="rId3"/>
          <a:stretch/>
        </p:blipFill>
        <p:spPr>
          <a:xfrm>
            <a:off x="7331040" y="430200"/>
            <a:ext cx="1641600" cy="164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rafikER</cp:lastModifiedBy>
  <dcterms:modified xsi:type="dcterms:W3CDTF">2023-09-15T07:37:23Z</dcterms:modified>
  <cp:revision>6</cp:revision>
  <dc:subject/>
  <dc:title>PowerPoint Presentation</dc:title>
</cp:coreProperties>
</file>