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3FC69-579A-4964-971E-F4531C3A8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8B18-E58A-4CA1-903F-D84A5C2B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50DD4-A950-4359-B53C-474EA7493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19AD6-171D-4CC2-986F-CEF2736AF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D0D86-F9A3-476C-9B02-6C6624F0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8E8E-FF77-4448-9AE2-CF0FE2909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2160-A44C-4E49-B448-36C559CB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EE98-6317-4652-97CC-06E0FD67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8BFD-414E-49BD-B982-84BB74FA0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7EF7-DFC2-4F27-BB56-CBC97300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949B-C658-4A03-A9DD-EC0F08A6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AA7AC-5089-4B50-809A-CC3E92145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3722-C7F5-4A0E-AB00-C30041630A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HEMŞİRELİK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531200" y="473040"/>
            <a:ext cx="1193760" cy="119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0:35:26Z</dcterms:created>
  <dc:creator>Microsoft Office User</dc:creator>
  <dc:description/>
  <dc:language>en-US</dc:language>
  <cp:lastModifiedBy>Microsoft Office User</cp:lastModifiedBy>
  <dcterms:modified xsi:type="dcterms:W3CDTF">2018-05-08T10:37:02Z</dcterms:modified>
  <cp:revision>1</cp:revision>
  <dc:subject/>
  <dc:title>PowerPoint Presentation</dc:title>
</cp:coreProperties>
</file>