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1DC87-39F9-4DFD-A4D8-9751D756B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EFFAD-F54A-4A61-88E5-3F805CFC8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2F1A4-7359-4042-B89A-A99D2EFC5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791D7-38C0-4608-91FC-B430167DD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708E5-8FE6-452B-8CA2-70AD8D1DB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482F-15B5-4421-A1F2-2D885F3C7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CF155-EA4B-4A87-BA13-BD62BBE82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A74DF-0FD5-41CC-8CE0-7AEB81640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7C434-A5A7-4EB8-BA0E-F6D8369CA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173DE-54B6-4FF7-B871-69196F60A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B7B06-3C92-4CFF-B325-7CCD30E90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25F3E-42C0-42A5-92D6-63FFC6A7C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A344-9813-45ED-A279-76B076CA43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HEMŞİRELİK FAKÜLTESİ</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502400" y="558720"/>
            <a:ext cx="1303560" cy="130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0:33:18Z</dcterms:created>
  <dc:creator>Microsoft Office User</dc:creator>
  <dc:description/>
  <dc:language>en-US</dc:language>
  <cp:lastModifiedBy>Microsoft Office User</cp:lastModifiedBy>
  <dcterms:modified xsi:type="dcterms:W3CDTF">2018-05-08T10:35:18Z</dcterms:modified>
  <cp:revision>1</cp:revision>
  <dc:subject/>
  <dc:title>PowerPoint Presentation</dc:title>
</cp:coreProperties>
</file>