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EB657-5EEA-42EE-A4D7-7B6BD3D5A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64013-7DCF-4DBD-8E41-9037DFEB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63AD5-64BD-4564-8673-471DDB4B6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84144-D955-4A9D-8F21-A58884DC8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B9FDA-5FFB-40A1-AB93-656696E1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A4E6-0D47-4B1A-BBE2-72FC5F33D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9649A-608B-4C7D-9B26-A195919FB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7D3F5-A1E9-42B6-99A9-0211F16C7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D5160-ABEC-48DE-8B52-B32F70843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886F3-1C33-4A43-86AA-183EF6F4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A66C-B478-4D58-9D23-A121DF4D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13E7F-EFC8-4A3E-B97D-9020EC6DB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6C663-2346-4518-9925-943968714B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GÜZEL SANATLAR TASARIM ve MİMARLIK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3" descr=""/>
          <p:cNvPicPr/>
          <p:nvPr/>
        </p:nvPicPr>
        <p:blipFill>
          <a:blip r:embed="rId3"/>
          <a:stretch/>
        </p:blipFill>
        <p:spPr>
          <a:xfrm>
            <a:off x="7772400" y="480960"/>
            <a:ext cx="1306440" cy="130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Tasarim</cp:lastModifiedBy>
  <dcterms:modified xsi:type="dcterms:W3CDTF">2019-12-20T10:13:54Z</dcterms:modified>
  <cp:revision>2</cp:revision>
  <dc:subject/>
  <dc:title>PowerPoint Presentation</dc:title>
</cp:coreProperties>
</file>