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FA89CD-7D2F-428B-AF73-ED1A27CACA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DE942-833E-4331-9677-C2E7902AB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218C19-0DA3-467D-BC65-3B41791241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E2EB0E-5C66-4258-8B97-4994B18277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7356E-CE0E-43DA-B2CF-0C4B4B978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B54FE-EB26-4B18-B6B1-8FDF039C9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0649B-7775-488C-8218-4DB64731D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0BA29-5040-45ED-BF39-1306B07FB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B1655-FCD7-4B4D-B4CC-B8673AA1C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E0FAD-4D56-4A62-8C30-20F19B17E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9639F-55BE-47FC-B0A6-1C8DC2907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64B8E-B719-402C-BA74-965349255D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BF250-EE81-4D8C-B655-BDB930D656C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FEN FAKÜLTESİ</a:t>
            </a:r>
            <a:endParaRPr b="0" lang="en-US" sz="60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59040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1" name="Picture 1" descr=""/>
          <p:cNvPicPr/>
          <p:nvPr/>
        </p:nvPicPr>
        <p:blipFill>
          <a:blip r:embed="rId3"/>
          <a:stretch/>
        </p:blipFill>
        <p:spPr>
          <a:xfrm>
            <a:off x="7854840" y="554040"/>
            <a:ext cx="1204920" cy="1204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08:24:50Z</dcterms:created>
  <dc:creator>Microsoft Office User</dc:creator>
  <dc:description/>
  <dc:language>en-US</dc:language>
  <cp:lastModifiedBy>Microsoft Office User</cp:lastModifiedBy>
  <dcterms:modified xsi:type="dcterms:W3CDTF">2018-05-08T08:26:40Z</dcterms:modified>
  <cp:revision>1</cp:revision>
  <dc:subject/>
  <dc:title>PowerPoint Presentation</dc:title>
</cp:coreProperties>
</file>