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A44BE-BC67-4928-BC15-8E8395F27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DBA9-37FD-49F6-A2CE-BF1837641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FC6F4-F319-429F-8091-6997E2611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3DC42-42A2-4180-8006-A2E228DCF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6AEE-4E53-46EB-8F1C-5864804A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E5A3C-7A41-48E8-9EC0-A46978EE8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361BC-A599-4686-8766-8A6B0A217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EE4C-2A0D-40EC-95C7-BC240D836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7F193-BAB5-460F-9A42-CC05BCBA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ED2A-9B23-4211-A34F-8E758152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5FE79-65CD-4A84-8580-33FDE84E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4693-DD90-485E-943C-509BC7716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582A-91FC-4896-AA32-1E6B9A5EB7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FEN FAKÜLTESİ</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707240" y="554040"/>
            <a:ext cx="1417680" cy="14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8:22:46Z</dcterms:created>
  <dc:creator>Microsoft Office User</dc:creator>
  <dc:description/>
  <dc:language>en-US</dc:language>
  <cp:lastModifiedBy>Microsoft Office User</cp:lastModifiedBy>
  <dcterms:modified xsi:type="dcterms:W3CDTF">2018-05-08T08:24:39Z</dcterms:modified>
  <cp:revision>1</cp:revision>
  <dc:subject/>
  <dc:title>PowerPoint Presentation</dc:title>
</cp:coreProperties>
</file>