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13B07-1D4E-470A-9162-4010D6857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47C96-2D23-4635-BDE7-5BF599880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D7176-7D33-4F1B-8CEF-EA4246C89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5F996-DD94-4939-92FD-90D53180E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4E728-40AF-4B59-801B-4D3CF46B8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97415-1E07-4A1E-B7F4-22EEF08B1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04BEC-A016-4BDD-A5AB-3E75D2436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73B57-BC60-43E8-ABED-732FB8BA7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30D8F-8759-42CC-9B08-1526E96D9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18B4A-0B24-41B4-9BC3-68FE8DC6F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C0D5B-788D-4E2B-8186-A389BE336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DC31F-C051-46B5-80D6-EFACCECDD3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A750-1E3D-4217-AAC4-EC2A4B5250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ĞİTİM FAKÜL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675560" y="554040"/>
            <a:ext cx="1204920" cy="120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8:13:21Z</dcterms:created>
  <dc:creator>Microsoft Office User</dc:creator>
  <dc:description/>
  <dc:language>en-US</dc:language>
  <cp:lastModifiedBy>Microsoft Office User</cp:lastModifiedBy>
  <dcterms:modified xsi:type="dcterms:W3CDTF">2018-05-08T08:14:27Z</dcterms:modified>
  <cp:revision>1</cp:revision>
  <dc:subject/>
  <dc:title>PowerPoint Presentation</dc:title>
</cp:coreProperties>
</file>