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CEF66-9E4C-42A7-9F3B-BB197DE4A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C7719-B90C-4F0E-BC84-8021DA857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F3203-5CE2-47CF-A285-BE7B56AEC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C316F-CA9F-4A43-8E18-25851099C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1D9B3-6E75-4FD0-9929-6D6AD2C87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8B329-0BC7-449E-BD37-4BF1FACCC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DBBFB-405E-4D99-8920-53CA0E303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EFF8F-9F45-487C-96BA-132CDE263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9D70F-6423-44AF-8E2B-91AD34C13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BC17A-616C-49A6-9B49-0BECFD3D4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D2125-1906-4594-9243-BBDCF9374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1C744-5CDE-4BEA-AF36-D34B16F585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B5465-F95D-4901-BE83-AC03596484C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GE ÜNİVERSİT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ĞİTİM FAKÜLTESİ</a:t>
            </a:r>
            <a:endParaRPr b="0" lang="en-US" sz="28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 descr=""/>
          <p:cNvPicPr/>
          <p:nvPr/>
        </p:nvPicPr>
        <p:blipFill>
          <a:blip r:embed="rId3"/>
          <a:stretch/>
        </p:blipFill>
        <p:spPr>
          <a:xfrm>
            <a:off x="7412040" y="581040"/>
            <a:ext cx="1393920" cy="139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8:11:08Z</dcterms:created>
  <dc:creator>Microsoft Office User</dc:creator>
  <dc:description/>
  <dc:language>en-US</dc:language>
  <cp:lastModifiedBy>Microsoft Office User</cp:lastModifiedBy>
  <dcterms:modified xsi:type="dcterms:W3CDTF">2018-05-08T08:13:11Z</dcterms:modified>
  <cp:revision>1</cp:revision>
  <dc:subject/>
  <dc:title>PowerPoint Presentation</dc:title>
</cp:coreProperties>
</file>