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19436-5827-4420-A2CB-A668C2A3A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77C37-ABA1-4A0D-B652-1EED4E724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D7068-BBDF-4F6B-808F-7FAB09794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C18E7-C7AA-4584-93F1-7BE2A624D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81E9C-263C-4229-B393-0DA7552A7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CB6D0-8FAE-4F6F-B16A-B2297F311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9C662-5943-4C68-B5D9-A31A13806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809C7-EAD9-4255-BAA0-2C9A098AD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DFC0D-D12A-4F88-831C-00094649F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B906A-2572-452E-986D-AA98F6A78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E414C-44BD-4719-8CEB-FC6DF0507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5C053-BA9E-4099-973C-9F8806D28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65BF-10F6-4D33-B9D3-C6D751A5FFA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DEBİYAT FAKÜL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534440" y="461880"/>
            <a:ext cx="1190520" cy="120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53:15Z</dcterms:created>
  <dc:creator>Microsoft Office User</dc:creator>
  <dc:description/>
  <dc:language>en-US</dc:language>
  <cp:lastModifiedBy>Microsoft Office User</cp:lastModifiedBy>
  <dcterms:modified xsi:type="dcterms:W3CDTF">2018-05-08T07:54:13Z</dcterms:modified>
  <cp:revision>1</cp:revision>
  <dc:subject/>
  <dc:title>PowerPoint Presentation</dc:title>
</cp:coreProperties>
</file>