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38510-77B0-4A58-B5EC-DB6B0C451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50DE7-C7E4-4717-89E6-8C006BF71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3849C-75C1-4A24-B5FE-2D10BC1E1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D157A-4CA8-47AA-A6E9-34225B5CA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43089-90AE-420F-9D3B-DE20CAF9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8917D-8987-4B7B-B689-B29697C7F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AE811-0905-4057-8D57-E6EB891C2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3FC2F-6AB7-4047-A83F-F7DF2BE15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228A5-E8A8-46D7-AE30-BFA4CEE3C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6F418-1C75-4FC7-ABC2-C7A211A1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BD6C-2302-4134-AF74-CDBA5E189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FF367-BFE3-4C82-978E-845D017FA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D217-225F-46C7-B27C-E07DDAF060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CZACILIK FAKÜL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552600"/>
            <a:ext cx="119052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5-08T07:38:57Z</dcterms:modified>
  <cp:revision>2</cp:revision>
  <dc:subject/>
  <dc:title>PowerPoint Presentation</dc:title>
</cp:coreProperties>
</file>