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D62F4-0EFE-4DDC-B2AB-7D2E27988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A514F-5ABE-4D5C-90A4-34AAE8530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FBB6F-70C9-48E5-BE1B-8AD203643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81A21-561E-45F3-A5FF-9653ADF05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E2CDA-A0E3-4E98-8427-07AE9A8B0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A2DA0-E461-441E-95A2-DA4105360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9296C-17EB-4D5E-AB15-71AF635D8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99D75-F50A-4A93-9DD8-F25341996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CAF1C-5D7D-45E2-AA5D-D783DBDAB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6CC93-4677-4A06-91C9-E318126AF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AE5DD-F8E4-4740-87F9-D9A71896F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72909-3C22-477A-B501-05B5E537BB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2E511-9269-4F66-B46D-5BD2B04DF4F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CZACILIK FAKÜLTESİ</a:t>
            </a:r>
            <a:endParaRPr b="0" lang="en-US" sz="28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408800" y="587520"/>
            <a:ext cx="1397160" cy="139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4:26Z</dcterms:created>
  <dc:creator>Microsoft Office User</dc:creator>
  <dc:description/>
  <dc:language>en-US</dc:language>
  <cp:lastModifiedBy>Microsoft Office User</cp:lastModifiedBy>
  <dcterms:modified xsi:type="dcterms:W3CDTF">2018-05-08T07:36:41Z</dcterms:modified>
  <cp:revision>1</cp:revision>
  <dc:subject/>
  <dc:title>PowerPoint Presentation</dc:title>
</cp:coreProperties>
</file>