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F5B1D-5167-4EF5-A51C-2AA8841CD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96C5-B5E9-4748-9946-CDEFFA2C7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59547-190D-4CDD-9F22-43AEF076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C090F-ED79-4AE7-9D8E-27DA35C82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0A46-B28F-46F1-B776-89A709EF8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1B21-999A-462A-A196-D9F5C241B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20428-E239-4009-9CFB-3E186931C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14451-137B-43B5-8135-FD96B4100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1F3A-B6D3-47C2-901F-92EB99614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683A-4756-478B-9A02-76C1D887A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437A-7B87-4204-A3F7-5A88EDE0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904A-8FE0-40E6-BEC6-84A11A41B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1317-F115-4845-9DBA-FF4C41F75D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DİŞ HEKİMLİĞİ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3" descr=""/>
          <p:cNvPicPr/>
          <p:nvPr/>
        </p:nvPicPr>
        <p:blipFill>
          <a:blip r:embed="rId3"/>
          <a:stretch/>
        </p:blipFill>
        <p:spPr>
          <a:xfrm>
            <a:off x="7680240" y="571680"/>
            <a:ext cx="1176480" cy="11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17:47Z</dcterms:created>
  <dc:creator>Microsoft Office User</dc:creator>
  <dc:description/>
  <dc:language>en-US</dc:language>
  <cp:lastModifiedBy>Microsoft Office User</cp:lastModifiedBy>
  <dcterms:modified xsi:type="dcterms:W3CDTF">2021-12-15T13:32:01Z</dcterms:modified>
  <cp:revision>2</cp:revision>
  <dc:subject/>
  <dc:title>PowerPoint Presentation</dc:title>
</cp:coreProperties>
</file>