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43162-C1A9-4CD9-832C-4BF1A1E05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70A7-26F7-4C8C-BAE2-139BCFC11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1F925-1B1E-4C2A-95E2-2D8ACAF9E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026CC-D776-473F-A382-2D9A60279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2A4E7-3E6A-48CB-ACFE-6FE60FA45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C0B0D-2179-49BE-81F5-DD8BDA34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8F28-23CF-45DB-A119-F5A5E69D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D3E8E-A56A-488B-B2A7-BFD06891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ECC7-CE04-4B3E-A064-1E2A291C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8E16-4E79-4DAC-8003-D6D0A4F0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B3B2-4396-4C97-99A5-410D3046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4F8C-1C84-4A7B-AA51-2B0AB5EFB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1155-D7D5-4805-97DE-FAA714DA5F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DİŞ HEKİMLİĞİ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2" descr=""/>
          <p:cNvPicPr/>
          <p:nvPr/>
        </p:nvPicPr>
        <p:blipFill>
          <a:blip r:embed="rId3"/>
          <a:stretch/>
        </p:blipFill>
        <p:spPr>
          <a:xfrm>
            <a:off x="7435800" y="574560"/>
            <a:ext cx="136044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17:26Z</dcterms:created>
  <dc:creator>Microsoft Office User</dc:creator>
  <dc:description/>
  <dc:language>en-US</dc:language>
  <cp:lastModifiedBy>Microsoft Office User</cp:lastModifiedBy>
  <dcterms:modified xsi:type="dcterms:W3CDTF">2021-12-15T13:31:16Z</dcterms:modified>
  <cp:revision>4</cp:revision>
  <dc:subject/>
  <dc:title>PowerPoint Presentation</dc:title>
</cp:coreProperties>
</file>