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2D947-B898-46B0-A80C-389927900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3B2DC-4F4B-4B06-8757-F19675F33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2FBF5F-1E3F-406D-9EEE-8112C0933E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B03D9-6BAD-4E62-905B-0E6471C96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98DD1-D1CB-4E3B-9DEF-58EF71D3B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74BBF-7CFA-4F1C-800A-74CCD8AFF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37425-9741-4094-A526-58CADDB4D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C0EB9-050D-48D8-A40C-6E5FD4CA8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D3604-1751-4850-9D3C-FAD36CC8A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8575F-B425-4950-AB9A-812791FAD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4BF59-1BDA-4E71-9BCB-1721F7B10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DC8A2-ACDC-4EAF-A831-DADBC70EFF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B56F9-E4B7-47F9-B036-0427BCC07BE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 ÜNİVERSİTESİ</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203864"/>
                </a:solidFill>
                <a:latin typeface="Calibri"/>
              </a:rPr>
              <a:t>ÇEŞME TURİZM FAKÜLTESİ</a:t>
            </a:r>
            <a:endParaRPr b="0" lang="en-US" sz="24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Resim 1" descr=""/>
          <p:cNvPicPr/>
          <p:nvPr/>
        </p:nvPicPr>
        <p:blipFill>
          <a:blip r:embed="rId3"/>
          <a:stretch/>
        </p:blipFill>
        <p:spPr>
          <a:xfrm>
            <a:off x="7440480" y="533520"/>
            <a:ext cx="1422360" cy="1422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1:48:51Z</dcterms:created>
  <dc:creator>Microsoft Office User</dc:creator>
  <dc:description/>
  <dc:language>en-US</dc:language>
  <cp:lastModifiedBy>GrafikER</cp:lastModifiedBy>
  <dcterms:modified xsi:type="dcterms:W3CDTF">2023-09-15T07:47:01Z</dcterms:modified>
  <cp:revision>7</cp:revision>
  <dc:subject/>
  <dc:title>PowerPoint Presentation</dc:title>
</cp:coreProperties>
</file>