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35D7-CFB4-43A0-AA86-CE10E7ABD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9E88-C6AF-4BA1-B36E-3BACB49FD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48126-C2FD-4257-9D88-297D884D8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21A6C-339E-44D9-833E-17B9549D9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76F0-21F1-4D5F-A641-A8F5FFFF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511EB-1147-472B-A196-7D9419CE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50C9-0FEE-4117-B96A-1E02DB0F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7585E-BD88-4666-B5C8-3910B42E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CAEE-6B58-45C3-998E-66FC8207E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17FE-1306-45A2-8DA0-CEDFC124B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4467-16B6-4DA6-B56B-E19AF778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386B-5D3A-487E-AEFF-A0CA4D46B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2517-26AC-4926-9487-B4D2CFADA5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BİRGİVİ İLAHİYAT FAKÜLTES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418520" y="576360"/>
            <a:ext cx="1500120" cy="143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4-11-06T07:43:11Z</dcterms:modified>
  <cp:revision>5</cp:revision>
  <dc:subject/>
  <dc:title>PowerPoint Presentation</dc:title>
</cp:coreProperties>
</file>