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89663-4AC8-4146-AA0A-8A1996E3A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2F7BF-EAC1-45C4-89A1-5DF5FA27B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DD875-64E0-4C6A-8A40-0AFABD9FD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099B4-6A03-47BE-A93B-ECAD85FB9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5CCD6-4C97-4C17-AC43-542267825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74B35-C4E4-49A0-BF51-1C528065D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0B3EF-C7EC-44CC-8DB9-ABCC7BAA0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B6747-1CDA-4178-BF80-F6AE471C5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E12D1-C0CB-4CC5-83AD-2F901425B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1D746-0EE7-4A47-8A8B-CDA0955B5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90FFF-645F-4F2D-A3CF-E5749985D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889FF-F80F-45AE-A7D7-796003587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9A1B-9021-4C23-9D28-F4EDDC1AB14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BİRGİVİ İLAHİYAT FAKÜLTESİ</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Resim 1" descr=""/>
          <p:cNvPicPr/>
          <p:nvPr/>
        </p:nvPicPr>
        <p:blipFill>
          <a:blip r:embed="rId3"/>
          <a:stretch/>
        </p:blipFill>
        <p:spPr>
          <a:xfrm>
            <a:off x="7743960" y="554040"/>
            <a:ext cx="1241280" cy="118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rafikER</cp:lastModifiedBy>
  <dcterms:modified xsi:type="dcterms:W3CDTF">2024-11-06T07:42:29Z</dcterms:modified>
  <cp:revision>5</cp:revision>
  <dc:subject/>
  <dc:title>PowerPoint Presentation</dc:title>
</cp:coreProperties>
</file>