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92FD0-B0B0-4ABB-A274-8735B5010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71DD3-748B-459F-8EC5-71EEF3DF0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8B519-E656-4F7F-9412-C5ED8D876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86914-1F1A-4F32-8B0A-462AB4ECA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BCD5E-5147-4068-BF41-9E42DB3B5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A0931-C8DB-4717-A715-1700E9306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11CD0-8568-42D1-B84F-A87D20E0E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35A3E-0CD6-418C-99F6-D23D2FECC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37889-3A77-4E65-A6AC-86BA26397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815DD-4621-4CC8-9060-8242CFB17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A0018-70F4-46A7-85A0-0AC6213DD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610F6-DD3E-43A6-BD43-19424EE100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64CE-674C-4BE5-A2D7-80912DD859E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BİLGİSAYAR VE BİLİŞİM BİLİMLERİ FAKÜLTESİ</a:t>
            </a:r>
            <a:endParaRPr b="0" lang="en-US" sz="32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Resim 1" descr=""/>
          <p:cNvPicPr/>
          <p:nvPr/>
        </p:nvPicPr>
        <p:blipFill>
          <a:blip r:embed="rId3"/>
          <a:stretch/>
        </p:blipFill>
        <p:spPr>
          <a:xfrm>
            <a:off x="7824960" y="554040"/>
            <a:ext cx="1238040" cy="123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7:53:35Z</dcterms:created>
  <dc:creator>Microsoft Office User</dc:creator>
  <dc:description/>
  <dc:language>en-US</dc:language>
  <cp:lastModifiedBy>GrafikER</cp:lastModifiedBy>
  <dcterms:modified xsi:type="dcterms:W3CDTF">2024-11-06T07:28:49Z</dcterms:modified>
  <cp:revision>5</cp:revision>
  <dc:subject/>
  <dc:title>PowerPoint Presentation</dc:title>
</cp:coreProperties>
</file>