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439DE-F981-4B40-B37B-97C94D9C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7139-5A1E-40D1-A9EE-F2B5FF2E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F448D-28E5-4698-BAA5-DE1484D89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ACD0B-24BE-49FC-B32A-37CB6B688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7B97-26AC-44A0-819B-4FD370B8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D059-BF3F-4C8E-B68C-5A4CD066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BB661-97E8-4E84-BBEB-AC0B5214F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9A201-E9DB-41DC-A4DB-680ED256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F8D7-6A22-4375-90D8-BFC79C49D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99F1-C701-4166-BF66-ACDDC6FC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540D4-101E-4D76-814D-6745EB23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5C2D-F69F-408D-9D59-68EDD3FAE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6625-B76C-438A-9A6A-292D893E1E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864"/>
                </a:solidFill>
                <a:latin typeface="Calibri"/>
              </a:rPr>
              <a:t>EGE ÜNİVERSİTESİ</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203864"/>
                </a:solidFill>
                <a:latin typeface="Calibri"/>
              </a:rPr>
              <a:t>BİLGİSAYAR VE BİLİŞİM BİLİMLERİ FAKÜLTESİ</a:t>
            </a:r>
            <a:endParaRPr b="0" lang="en-US" sz="22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608960" y="554040"/>
            <a:ext cx="1420920" cy="14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4-11-06T07:30:08Z</dcterms:modified>
  <cp:revision>5</cp:revision>
  <dc:subject/>
  <dc:title>PowerPoint Presentation</dc:title>
</cp:coreProperties>
</file>