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B7987-EB71-4D34-903E-9E394F4D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FA58-E559-4CF4-8FEA-401929F8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CBC13-5F40-4775-9C79-664C133F1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4927-6858-4E2E-B413-5ACC19405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2613-1991-4039-A6AE-C5A97AA78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0520-7B36-4536-A70E-A7256BC2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B7F50-1689-4ED2-9D72-475F87F81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B7F4C-ADCC-44A4-9B3F-E9885E6CD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BFD23-E8E8-44B1-AF1B-7DEDF128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141D-92C1-4303-BAA7-F3659F694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660A-8A16-4DA5-8677-7DC37352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FDBE-65C3-4023-83EC-AFEBC01E6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CB43-B964-4DC7-AB02-CC1954785E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ULUSLARARASI BİLGİSAYAR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2" descr="ekran görüntüsü, grafik, yazı tipi, daire içeren bir resim&#10;&#10;Açıklama otomatik olarak oluşturuldu"/>
          <p:cNvPicPr/>
          <p:nvPr/>
        </p:nvPicPr>
        <p:blipFill>
          <a:blip r:embed="rId3"/>
          <a:stretch/>
        </p:blipFill>
        <p:spPr>
          <a:xfrm>
            <a:off x="7464600" y="471600"/>
            <a:ext cx="1504800" cy="150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9:21:34Z</dcterms:created>
  <dc:creator>Microsoft Office User</dc:creator>
  <dc:description/>
  <dc:language>en-US</dc:language>
  <cp:lastModifiedBy>Erdoğan RODOPLU CoNraD</cp:lastModifiedBy>
  <dcterms:modified xsi:type="dcterms:W3CDTF">2025-04-14T07:39:58Z</dcterms:modified>
  <cp:revision>2</cp:revision>
  <dc:subject/>
  <dc:title>PowerPoint Presentation</dc:title>
</cp:coreProperties>
</file>