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C6234-3389-43A2-AD93-E5A17A403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A36F2-629A-4CAA-901A-15F2BEDB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F0CFA-8B09-4053-BA7E-9463AFE11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B274E-43BC-4441-9DF5-B5659845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B5D5-6A75-42A1-B89C-441A9809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89E5-786F-4940-A871-A40E6AFE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B53DD-F164-4FE3-921E-658815CE6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B0AAF-93C3-4B6C-A35B-3A7D39E0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1B04-F621-4523-B673-62D615F8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B39E-AC1D-4FD8-9EA1-F4C1315C8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95F1E-BDAA-4088-93B0-73D8C246D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1AA64-A85A-4DAF-A6FA-B22E0422C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B4B3-27B4-4D0D-9008-51899A9192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ULUSLARARASI BİLGİSAYAR ENSTİTÜSÜ</a:t>
            </a:r>
            <a:endParaRPr b="0" lang="en-US" sz="36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3" descr="ekran görüntüsü, grafik, yazı tipi, daire içeren bir resim&#10;&#10;Açıklama otomatik olarak oluşturuldu"/>
          <p:cNvPicPr/>
          <p:nvPr/>
        </p:nvPicPr>
        <p:blipFill>
          <a:blip r:embed="rId3"/>
          <a:stretch/>
        </p:blipFill>
        <p:spPr>
          <a:xfrm>
            <a:off x="7596360" y="495360"/>
            <a:ext cx="1323720" cy="132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9:23:17Z</dcterms:created>
  <dc:creator>Microsoft Office User</dc:creator>
  <dc:description/>
  <dc:language>en-US</dc:language>
  <cp:lastModifiedBy>Erdoğan RODOPLU CoNraD</cp:lastModifiedBy>
  <dcterms:modified xsi:type="dcterms:W3CDTF">2025-04-14T07:39:24Z</dcterms:modified>
  <cp:revision>3</cp:revision>
  <dc:subject/>
  <dc:title>PowerPoint Presentation</dc:title>
</cp:coreProperties>
</file>