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F7086-AE96-46FC-8B60-02BAE5AB3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09E9-3F55-4A44-B484-A0E10687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31AC2-BF10-4BBD-924B-E1A35047C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EB73C-267B-4FC9-863B-A229267BE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3A45-E0F2-4946-AAF6-92BF7502E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A873-C508-4938-8827-B9689EA50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9BF6-4B22-4C5C-9D75-9746D728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173A-6604-4D83-A22D-A90CEFBA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1377-5BAB-45CF-B57F-61F077B0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1C63-1D8B-473D-B311-3F1913D9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D283-0710-4708-AE79-8DC72B4A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F807-F78B-40E6-B16A-1596AB079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171D-7E6D-484A-A8DC-DDB5279DFF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TÜRK DÜNYASI ARAŞTIRMALARI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2" descr=""/>
          <p:cNvPicPr/>
          <p:nvPr/>
        </p:nvPicPr>
        <p:blipFill>
          <a:blip r:embed="rId3"/>
          <a:stretch/>
        </p:blipFill>
        <p:spPr>
          <a:xfrm>
            <a:off x="7451640" y="500040"/>
            <a:ext cx="152568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9:06:41Z</dcterms:created>
  <dc:creator>Microsoft Office User</dc:creator>
  <dc:description/>
  <dc:language>en-US</dc:language>
  <cp:lastModifiedBy>Microsoft Office User</cp:lastModifiedBy>
  <dcterms:modified xsi:type="dcterms:W3CDTF">2018-05-14T09:09:54Z</dcterms:modified>
  <cp:revision>1</cp:revision>
  <dc:subject/>
  <dc:title>PowerPoint Presentation</dc:title>
</cp:coreProperties>
</file>