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1BF52-09CD-4425-8F09-497F6522F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624B3-AF05-4041-9480-74F16A599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60ECF-1DE5-4AB3-A39D-5C40AB1C1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7AA97-5B38-47A6-9D9D-BAA57B472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17CB8-34B8-4594-BA40-B496A4750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D6277-3CC0-4799-AE9D-EFE3AA2B9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ACA69-4371-48B3-A56B-79152C1FA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BD12E-F282-44E0-B252-7524CFF18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BC820-29AA-4A4D-8C9E-9CA766059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63F03-0A83-4996-9751-6419FDCBC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BE761-F131-428C-9559-279E2B996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7FE8D-6FA9-43CF-B8CA-70083656E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67C8E-70FE-47BB-8903-635C04BE5FC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TÜRK DÜNYASI ARAŞTIRMALARI ENSTİTÜSÜ</a:t>
            </a:r>
            <a:endParaRPr b="0" lang="en-US" sz="36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40640" y="530280"/>
            <a:ext cx="1265400" cy="126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9:10:33Z</dcterms:created>
  <dc:creator>Microsoft Office User</dc:creator>
  <dc:description/>
  <dc:language>en-US</dc:language>
  <cp:lastModifiedBy>Microsoft Office User</cp:lastModifiedBy>
  <dcterms:modified xsi:type="dcterms:W3CDTF">2018-05-14T09:13:04Z</dcterms:modified>
  <cp:revision>1</cp:revision>
  <dc:subject/>
  <dc:title>PowerPoint Presentation</dc:title>
</cp:coreProperties>
</file>