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EDE2E-3E4A-4238-99D7-54B5AE9AE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1D4E9-BF3F-4D1E-A83E-29C14EABB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CFC23-3FBB-4AAC-8F4E-761C1C7DC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ACB39-3543-464D-BA30-6E2A96609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ABEE7-59A5-4CE1-9C96-89D24F1A0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09D1C-D357-4962-AF56-4A3954EA8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42142-0614-4FA0-94F3-A2907E210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1B111-3EBF-45DC-A519-06E4BCCCC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CA4A5-646C-47D9-9174-8D1148AA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88C9C-A8C7-47A1-9962-04075F5E0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FB60-758C-4E4C-A88B-E4843EB2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5055-67C8-4C7E-8E14-1A7651F05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681F-1A48-4285-A6A6-F7A9FC1A04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SOSYAL BİLİMLER ENSTİTÜS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94480" y="554040"/>
            <a:ext cx="1430280" cy="143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59:56Z</dcterms:created>
  <dc:creator>Microsoft Office User</dc:creator>
  <dc:description/>
  <dc:language>en-US</dc:language>
  <cp:lastModifiedBy>Microsoft Office User</cp:lastModifiedBy>
  <dcterms:modified xsi:type="dcterms:W3CDTF">2018-05-14T12:00:54Z</dcterms:modified>
  <cp:revision>2</cp:revision>
  <dc:subject/>
  <dc:title>PowerPoint Presentation</dc:title>
</cp:coreProperties>
</file>