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C76F8-77D2-4B9F-9724-2008B5A51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80A37-E942-4BF2-A702-1C9D0C2FF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19810-3912-4057-B4F3-F58B7BF1B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F2AA8-131B-43E6-8314-109F4EA89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C9498-0798-437F-AD44-0172A46D8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7A773-982D-4244-A466-654D38D60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98D35-3F81-4748-8559-BC21E14C7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926C8-C184-4147-B8E3-4BF1331F1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EEC95-475B-490D-8483-4151C14E0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DA243-1B13-4A8F-B112-07E595735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2B774-EEA1-40D9-9B4F-408538EDD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2FC6A-3EA5-49A7-BBAF-17AF24526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C3B4-F55D-4E4E-8C29-00694F397A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SOSYAL BİLİMLER ENSTİTÜSÜ</a:t>
            </a:r>
            <a:endParaRPr b="0" lang="en-US" sz="36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0880" y="554040"/>
            <a:ext cx="1204920" cy="12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9:01:15Z</dcterms:created>
  <dc:creator>Microsoft Office User</dc:creator>
  <dc:description/>
  <dc:language>en-US</dc:language>
  <cp:lastModifiedBy>Microsoft Office User</cp:lastModifiedBy>
  <dcterms:modified xsi:type="dcterms:W3CDTF">2018-05-14T12:01:03Z</dcterms:modified>
  <cp:revision>2</cp:revision>
  <dc:subject/>
  <dc:title>PowerPoint Presentation</dc:title>
</cp:coreProperties>
</file>