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3CE2C-AD02-4784-BA25-A19383628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C0E4E-8EA3-4085-98E8-336282E51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5BFEE-88D2-4C58-A86B-F3CB3C957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17828-D34C-4C4E-A785-E14EF0343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C9072-FE0A-4327-952D-5D6287F9B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3F6D9-16FE-4390-8AC4-67DE2DF28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3E716-D4B8-464F-B766-71018D960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3B71C-3096-4347-8257-A16D9EAA4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A6498-C25C-4F06-8DC3-FA0F54032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400C6-9D32-4E2A-BCCC-F2FE43C2C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36B60-E8F7-4788-A07C-902910471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4F2C8-B1A8-4CD8-ACB1-ED3EF4A39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1798E-6730-4AD1-98E6-3B15E67B160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AĞLIK BİLİMLERİ ENSTİTÜSÜ</a:t>
            </a:r>
            <a:endParaRPr b="0" lang="en-US" sz="32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70880" y="554040"/>
            <a:ext cx="1204920" cy="120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8:49:45Z</dcterms:created>
  <dc:creator>Microsoft Office User</dc:creator>
  <dc:description/>
  <dc:language>en-US</dc:language>
  <cp:lastModifiedBy>Microsoft Office User</cp:lastModifiedBy>
  <dcterms:modified xsi:type="dcterms:W3CDTF">2018-05-14T08:51:02Z</dcterms:modified>
  <cp:revision>1</cp:revision>
  <dc:subject/>
  <dc:title>PowerPoint Presentation</dc:title>
</cp:coreProperties>
</file>