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11B34-AC31-4862-8F26-FDA87003B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2B4E5-24E3-43B9-88E1-EB6121EA2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A32E9-D658-4520-A914-4216DF40D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521B0-E580-400A-910D-A056F4A15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9A08F-0260-4B6F-A7BF-E7A7058DE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C87D6-82FB-4AF4-8E40-DE5A470C3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02AD3-7AF6-4970-8295-509E046BF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7FFDF-28DD-4B7C-83C3-9429036D3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87D97-D700-466B-BF39-59A1267D2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81A23-945E-4F94-909A-84B1422E4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45AAC-CACB-443E-A4CB-FC9FD5ADB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16453-85C4-4AFD-8BEA-C857FA360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A8FC-6893-4CE2-BE95-67231BF8D4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SAĞLIK BİLİMLERİ ENSTİTÜSÜ</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494480" y="554040"/>
            <a:ext cx="1430280" cy="143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8:46:49Z</dcterms:created>
  <dc:creator>Microsoft Office User</dc:creator>
  <dc:description/>
  <dc:language>en-US</dc:language>
  <cp:lastModifiedBy>Microsoft Office User</cp:lastModifiedBy>
  <dcterms:modified xsi:type="dcterms:W3CDTF">2018-05-14T08:49:37Z</dcterms:modified>
  <cp:revision>1</cp:revision>
  <dc:subject/>
  <dc:title>PowerPoint Presentation</dc:title>
</cp:coreProperties>
</file>