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30D72-476A-4B67-AE5F-BDB8B8A26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CC705-6F9C-415B-9453-4459576CF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68D3A-1B8B-48A0-B2B9-6305F0488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91594-682F-424C-9E11-3698C4459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0E563-BC2E-4AFB-94A9-55F111347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C2EFC-4A0C-4C30-AD50-82F582BB3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1DFFF-DE90-4055-AD4F-0E6131208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0BC96-5B60-486E-ACC2-8527DCFD0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E76BF-601C-47BB-8487-FDB1BFC0C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817B6-65C6-40AB-A2F7-D63C82CD9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D8576-9320-40B0-98E2-CD23DB518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9E65-3EF4-4776-A7BA-59386259C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6262-3CBB-4981-B694-8274CD0AAA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NÜKLEER BİLİMLER ENSTİTÜSÜ</a:t>
            </a:r>
            <a:endParaRPr b="0" lang="en-US" sz="36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0880" y="554040"/>
            <a:ext cx="1204920" cy="12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8:42:25Z</dcterms:created>
  <dc:creator>Microsoft Office User</dc:creator>
  <dc:description/>
  <dc:language>en-US</dc:language>
  <cp:lastModifiedBy>Microsoft Office User</cp:lastModifiedBy>
  <dcterms:modified xsi:type="dcterms:W3CDTF">2018-05-14T08:42:35Z</dcterms:modified>
  <cp:revision>1</cp:revision>
  <dc:subject/>
  <dc:title>PowerPoint Presentation</dc:title>
</cp:coreProperties>
</file>