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88F04-CAF5-4B01-A0CB-9B34A7A30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82280-0F0D-4493-9854-62A238F30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03510-121F-4786-B8A1-5403F6F55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C352A-83E8-4510-896E-96BBC2501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CF099-4CE6-426D-BE9B-CB9A70F78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D54CD-0A08-49DA-BB07-7504B1F87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4DC4B-FEFC-4D6B-AA79-F96E9F56B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1CC3D-24C5-4518-8A9E-80FE52498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B4E75-DA90-49D1-A38F-A7C832630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974E7-205B-4D81-BF19-CCA5F1598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2A0C6-26DB-4A6E-87F5-72D5F5431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9AE7C-B996-4737-B9E1-C83AE7C14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E6BC-15E3-4A6D-86AC-4862C3F883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NÜKLEER BİLİMLER ENSTİTÜSÜ</a:t>
            </a:r>
            <a:endParaRPr b="0" lang="en-US" sz="20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504200" y="554040"/>
            <a:ext cx="1420560" cy="14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8:42:12Z</dcterms:created>
  <dc:creator>Microsoft Office User</dc:creator>
  <dc:description/>
  <dc:language>en-US</dc:language>
  <cp:lastModifiedBy>Microsoft Office User</cp:lastModifiedBy>
  <dcterms:modified xsi:type="dcterms:W3CDTF">2018-05-14T08:42:23Z</dcterms:modified>
  <cp:revision>1</cp:revision>
  <dc:subject/>
  <dc:title>PowerPoint Presentation</dc:title>
</cp:coreProperties>
</file>