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86FCFA-4978-4252-AA5A-CD3EC5943E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DD7D8-D213-4A04-B604-6B4735A08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D9B6F-780F-4CD7-88B1-03846195F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9B0D90-A9DF-4220-82EB-26B53EAA3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5307F-43C1-4C1F-9C33-EC641FD9D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1A080-2164-4E1F-9389-6BDC7DF18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16767-52A7-4635-BF79-AD85AB107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2A31D-A505-48BC-B862-7FA9D753B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ABA85-FDF4-4927-910C-534F370D5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6E684-5EFD-4506-9CCC-37F123C16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EF77E-CE26-4FDF-B17F-6E8EE06C1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D283F-1B8C-4728-8E8F-F955D5BFD1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FC113-B6D2-4F19-A7FE-7BB5E7C1B8A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03864"/>
                </a:solidFill>
                <a:latin typeface="Calibri"/>
              </a:rPr>
              <a:t>EGE ÜNİVERSİTES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03864"/>
                </a:solidFill>
                <a:latin typeface="Calibri"/>
              </a:rPr>
              <a:t>MADDE BAĞIMLILIĞI,TOKSİKOLOJİ VE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03864"/>
                </a:solidFill>
                <a:latin typeface="Calibri"/>
              </a:rPr>
              <a:t>İLAÇ BİLİMLERİ ENSTİTÜSÜ</a:t>
            </a:r>
            <a:endParaRPr b="0" lang="en-US" sz="20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Picture 1" descr=""/>
          <p:cNvPicPr/>
          <p:nvPr/>
        </p:nvPicPr>
        <p:blipFill>
          <a:blip r:embed="rId3"/>
          <a:stretch/>
        </p:blipFill>
        <p:spPr>
          <a:xfrm>
            <a:off x="7488360" y="554040"/>
            <a:ext cx="1436400" cy="1436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4T08:20:28Z</dcterms:created>
  <dc:creator>Microsoft Office User</dc:creator>
  <dc:description/>
  <dc:language>en-US</dc:language>
  <cp:lastModifiedBy>Microsoft Office User</cp:lastModifiedBy>
  <dcterms:modified xsi:type="dcterms:W3CDTF">2018-05-14T08:23:59Z</dcterms:modified>
  <cp:revision>1</cp:revision>
  <dc:subject/>
  <dc:title>PowerPoint Presentation</dc:title>
</cp:coreProperties>
</file>