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CFA49-7F0A-4D57-AD95-7AF5043A4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C4855-FEF3-434B-90A2-3BAD41AF7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BB311-7A9F-43E1-B2D1-9CCCFAEB8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7CDD-217F-4C77-8AE1-6AC7FE440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3ABDD-708E-48CD-B8F6-E3D0BE4A3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B696-1F82-48BA-A49E-FC235E94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06550-E89B-4A3B-B06C-ACC41A780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29031-B09F-473D-BBB6-3A09DEC73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A3FA-052B-4738-BDA3-7763E10B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6B9D-36CF-4DC2-B5A9-31387639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07A0-1B0D-44F3-910C-50AE27D44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98FD-B6AA-4ACE-AA75-1B1DBDA8A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6E7B-BD6F-422B-A8B5-0A4BA79436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DDE BAĞIMLILIĞI,TOKSİKOLOJİ V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LAÇ BİLİMLERİ ENSTİTÜS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088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24:08Z</dcterms:created>
  <dc:creator>Microsoft Office User</dc:creator>
  <dc:description/>
  <dc:language>en-US</dc:language>
  <cp:lastModifiedBy>Microsoft Office User</cp:lastModifiedBy>
  <dcterms:modified xsi:type="dcterms:W3CDTF">2018-05-14T08:29:16Z</dcterms:modified>
  <cp:revision>1</cp:revision>
  <dc:subject/>
  <dc:title>PowerPoint Presentation</dc:title>
</cp:coreProperties>
</file>