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1A345-33BF-41BC-A14D-7CD81983B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6BD1F-7A7F-4C31-9366-3592CB5F6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FF1F7-C24C-438E-BCE8-D28FDB88C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62B06-C1D5-44D9-86D4-9BBF3DFFC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BE0F9-D9BC-42F8-98ED-AAF701A3F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0141C-BC3F-4749-B38E-A3C0418CC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3A5B5-8333-4CBC-BBFA-792ED521A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06B96-3959-494D-BC09-A7D6E094C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847BE-637A-4827-8FC4-F8AB3BAAC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8904A-9267-4190-8DD9-B646A4FB2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2BF4E-512F-4A29-9B45-068BA1045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20AF4-E9EC-4011-9D7D-C89965CFF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6D87-8664-4278-B043-CE8152D1DE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GÜNEŞ ENERJİSİ ENSTİTÜSÜ</a:t>
            </a:r>
            <a:endParaRPr b="0" lang="en-US" sz="36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70880" y="554040"/>
            <a:ext cx="1204920" cy="120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8:08:22Z</dcterms:created>
  <dc:creator>Microsoft Office User</dc:creator>
  <dc:description/>
  <dc:language>en-US</dc:language>
  <cp:lastModifiedBy>Microsoft Office User</cp:lastModifiedBy>
  <dcterms:modified xsi:type="dcterms:W3CDTF">2018-05-14T08:09:27Z</dcterms:modified>
  <cp:revision>1</cp:revision>
  <dc:subject/>
  <dc:title>PowerPoint Presentation</dc:title>
</cp:coreProperties>
</file>