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474BE-E659-43B5-807D-69A14F559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0D7F4-585C-4097-800F-84DA55620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D0B2E-AB23-4043-9CE9-226E29CB0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A7567-C577-48CD-A9B3-06FD4AE24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6719A-3601-4403-9DB7-BFFF7790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41E79-0D07-4B40-B8B0-DF82D4629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DD620-8399-4723-AEBF-266863ADA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70D07-8775-4E5D-90DC-0EBC1F7D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5B095-A4FB-4FAE-ABF2-8A16CE077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DF09A-5075-4F16-AAE1-3D6120943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92C34-FEF1-428B-97B9-E4E84134E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CA3B-0207-4BB4-9A9C-AF7A72AA0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375D-CCB8-4BE4-AE4F-C084A9D2EC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EGE ÜNİVERSİTES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03864"/>
                </a:solidFill>
                <a:latin typeface="Calibri"/>
              </a:rPr>
              <a:t>GÜNEŞ ENERJİSİ ENSTİTÜSÜ</a:t>
            </a:r>
            <a:endParaRPr b="0" lang="en-US" sz="20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04200" y="554040"/>
            <a:ext cx="1420560" cy="14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8:06:34Z</dcterms:created>
  <dc:creator>Microsoft Office User</dc:creator>
  <dc:description/>
  <dc:language>en-US</dc:language>
  <cp:lastModifiedBy>Microsoft Office User</cp:lastModifiedBy>
  <dcterms:modified xsi:type="dcterms:W3CDTF">2018-05-14T08:08:15Z</dcterms:modified>
  <cp:revision>1</cp:revision>
  <dc:subject/>
  <dc:title>PowerPoint Presentation</dc:title>
</cp:coreProperties>
</file>