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EAC51-79A7-4AE3-89CA-618D02F98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760F-CB7F-4A6B-823D-54A108B2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B44B4-5492-4B2E-83B6-388F6917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33369-2D4D-45ED-8BDF-CF40C805F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1EF8-598D-4327-BB0C-AD63A1E1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95FD-0761-4628-A367-A5D00457C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9665-4071-4C3C-86BD-DF826B6D6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8592-A47A-4857-8ABD-81ED5239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71A2-1A3A-4569-AD78-97AD907A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AE82-B5BD-4B45-B7A7-0ABB9E4DA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0303-52A9-40A2-96FC-D3AF4BB7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5681-3716-4F15-BD40-EB700AC38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9412-C2F5-4476-A179-8D2256774D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ĞİTİM BİLİMLERİ ENSTÜTÜS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7" descr=""/>
          <p:cNvPicPr/>
          <p:nvPr/>
        </p:nvPicPr>
        <p:blipFill>
          <a:blip r:embed="rId3"/>
          <a:stretch/>
        </p:blipFill>
        <p:spPr>
          <a:xfrm>
            <a:off x="7675560" y="582480"/>
            <a:ext cx="1143000" cy="11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1:24:43Z</dcterms:modified>
  <cp:revision>5</cp:revision>
  <dc:subject/>
  <dc:title>PowerPoint Presentation</dc:title>
</cp:coreProperties>
</file>