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AC77-C2B2-4AAC-B5FD-D43E23AC5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4E4B-2B82-4C41-A8ED-5FC4D0B6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CE872-2826-4EB2-98E5-F52AD7211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9CC1D-5894-4259-9F18-5F450D695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2B6D-DF48-4312-AF46-7CD70CD0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B6E8-8BFB-468D-A847-A85B5463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85A3-2320-4084-85D6-FBE17494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517A-4B54-4429-92E9-9C47362A3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59679-E40A-46B2-812D-699E0364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E35B-DA93-4839-915F-CD9D0A62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AA68-DA4E-467D-9EC5-D339A9E8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1F4C-7A15-482F-A292-C39B8CC1E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D203-8AB5-4E1E-A378-0D46016B40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EĞİTİM BİLİMLERİ ENSTÜTÜSÜ</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6" descr=""/>
          <p:cNvPicPr/>
          <p:nvPr/>
        </p:nvPicPr>
        <p:blipFill>
          <a:blip r:embed="rId3"/>
          <a:stretch/>
        </p:blipFill>
        <p:spPr>
          <a:xfrm>
            <a:off x="7675560" y="582480"/>
            <a:ext cx="1395360" cy="14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1:25:54Z</dcterms:modified>
  <cp:revision>4</cp:revision>
  <dc:subject/>
  <dc:title>PowerPoint Presentation</dc:title>
</cp:coreProperties>
</file>