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94AE4-A44A-45E9-A006-1D0E2823D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8315F-3C7F-4A45-850E-1661A399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4089C-F000-4B74-8EF0-9F241EC72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F6966-264D-4A45-B28E-623CAF345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5504D-49FF-4A66-AD32-F620AE75B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69C52-E6C4-4263-B900-94EDBFA47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BFCC4-991F-4A42-95F8-4DDFD041F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A9E7F-7190-45A8-91ED-E7AFF1EC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5D44B-2D0D-4297-B43A-C6B898868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1AC8-41D9-47F9-8691-68E86525A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DCB9-C4CC-4458-A4BB-83EA4F73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C7DC-6E41-41C6-896E-6F889C50C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C4EA-0A9A-484A-B28D-AA19B812B3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alibri"/>
              </a:rPr>
              <a:t>TEKSTİL MÜHENDİSLİĞİ BÖLÜMÜ</a:t>
            </a:r>
            <a:endParaRPr b="0" lang="en-US" sz="2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0" descr="tekstil-muh"/>
          <p:cNvPicPr/>
          <p:nvPr/>
        </p:nvPicPr>
        <p:blipFill>
          <a:blip r:embed="rId3"/>
          <a:stretch/>
        </p:blipFill>
        <p:spPr>
          <a:xfrm>
            <a:off x="7772400" y="318960"/>
            <a:ext cx="1049400" cy="14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28:26Z</dcterms:created>
  <dc:creator>Microsoft Office User</dc:creator>
  <dc:description/>
  <dc:language>en-US</dc:language>
  <cp:lastModifiedBy>GTasarim</cp:lastModifiedBy>
  <dcterms:modified xsi:type="dcterms:W3CDTF">2019-12-20T12:50:44Z</dcterms:modified>
  <cp:revision>17</cp:revision>
  <dc:subject/>
  <dc:title>PowerPoint Presentation</dc:title>
</cp:coreProperties>
</file>