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B89FA-5246-4589-8003-681C6F486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DCD09-2B64-4F27-9258-7DDA3B023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EE78D-5061-4622-95CD-12053450F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FD5FB-476C-40CF-A427-94E1E2B80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29B97-B27E-4559-9FDC-3711D76EB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AA11F-6CD0-48D6-ACFC-DBCE0B3AF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81807-EF5D-4D8A-90B2-183AF7418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31279-F491-4239-AF79-2EE737A12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90ED4-F9BB-4AFD-8674-6A7023C99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771F9-91F0-4B0D-8C49-011A0FBDA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22220-1CE5-4A05-B1B6-10FB68327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AA799-E1B1-4C5A-A91B-C4E736A64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06BF-FC39-4313-869E-D15B89C8C0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03864"/>
                </a:solidFill>
                <a:latin typeface="Calibri"/>
              </a:rPr>
              <a:t>TEKSTİL MÜHENDİSLİĞİ BÖLÜMÜ</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7" descr="tekstil-muh"/>
          <p:cNvPicPr/>
          <p:nvPr/>
        </p:nvPicPr>
        <p:blipFill>
          <a:blip r:embed="rId3"/>
          <a:stretch/>
        </p:blipFill>
        <p:spPr>
          <a:xfrm>
            <a:off x="7763040" y="423720"/>
            <a:ext cx="1201680" cy="168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Tasarim</cp:lastModifiedBy>
  <dcterms:modified xsi:type="dcterms:W3CDTF">2019-12-20T12:47:20Z</dcterms:modified>
  <cp:revision>11</cp:revision>
  <dc:subject/>
  <dc:title>PowerPoint Presentation</dc:title>
</cp:coreProperties>
</file>