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14F28-F349-4F82-9BB7-BE5C078FD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DAA7-811B-407F-8EC6-72721C3B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6B7E8-ED9F-4FD0-BEA2-776BEEE9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F2F74-BCC1-4187-8C49-F0B546288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E01C-210E-49E5-96E6-48676B5C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706F4-A778-41F6-AA7B-C28D4F00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D192-9DE8-44DC-ACD0-5FACBF1D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140B-2487-4C10-909E-CBEDB1C7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67385-2A06-4942-BAE8-1F9805C0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1C92-3B93-434B-8726-9CCA572A6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9396-3CDB-4FF9-AA8A-477FDF6C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87BC-B31A-40B2-873C-BA99B2E15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9AAE-237B-4F19-853C-22FEEFFEC2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SAĞLIK KÜLTÜR ve  SPOR DAİRE BAŞKANLIĞI</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29" descr=""/>
          <p:cNvPicPr/>
          <p:nvPr/>
        </p:nvPicPr>
        <p:blipFill>
          <a:blip r:embed="rId3"/>
          <a:stretch/>
        </p:blipFill>
        <p:spPr>
          <a:xfrm>
            <a:off x="7284960" y="544680"/>
            <a:ext cx="1440000" cy="143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3:37:02Z</dcterms:modified>
  <cp:revision>17</cp:revision>
  <dc:subject/>
  <dc:title>PowerPoint Presentation</dc:title>
</cp:coreProperties>
</file>