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83DD8-8EC3-4158-8163-667B1B549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12D0F-49DE-4FF1-9693-199BA68B6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7F1DE-7E8D-4E13-A9FF-76ABAAEA3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51768-8CC0-4606-AF1B-13470F8FE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5948-852A-4575-846F-DE2F8E918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4627-8948-4061-AF33-858E99DC6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ED0B-1C26-43AC-AD6F-511CB742D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761D0-900C-4AD7-804D-A295FC60E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AEC57-39B4-4478-8F57-264EA20F1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DC0A0-828E-43F1-98AD-2C45D08CC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AFF8-323D-49AC-81F7-98B2C3212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CC444-1585-43C1-A083-409266B13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A58F-F43D-413D-8014-E8A5CF65B2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SAĞLIK KÜLTÜR ve SPOR DAİRE BAŞKANLIĞ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11" descr=""/>
          <p:cNvPicPr/>
          <p:nvPr/>
        </p:nvPicPr>
        <p:blipFill>
          <a:blip r:embed="rId3"/>
          <a:stretch/>
        </p:blipFill>
        <p:spPr>
          <a:xfrm>
            <a:off x="7472520" y="506520"/>
            <a:ext cx="1252440" cy="125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3:35:45Z</dcterms:modified>
  <cp:revision>18</cp:revision>
  <dc:subject/>
  <dc:title>PowerPoint Presentation</dc:title>
</cp:coreProperties>
</file>