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93591-A646-4A13-99E3-47303B1CD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60D03-876D-45EE-9691-FAADB1544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E429C-AF46-4DF0-ABC2-059C5A289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950D2-68DE-43A7-BD86-518407532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78FB4-DDBF-4326-A082-916A208E8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811D-C765-4FD7-BCA2-10AF58447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FC18B-AFC4-4F67-A0F0-2F98F24C9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A293C-890B-4AAD-A7A8-B2866636F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0949F-069F-45D4-9AD4-C9188455B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E282-670C-4BB8-A7EA-23D9457DF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B534-379A-4AF8-ABBD-74C1A5CD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2466-5E90-4CB3-8C9F-9C67912D4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26DC-2996-4EF1-8D46-6E12CBA814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ÖZEL EĞİTİM BÖLÜM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20" descr="ege-ozelegitimbolumu"/>
          <p:cNvPicPr/>
          <p:nvPr/>
        </p:nvPicPr>
        <p:blipFill>
          <a:blip r:embed="rId3"/>
          <a:stretch/>
        </p:blipFill>
        <p:spPr>
          <a:xfrm>
            <a:off x="7656480" y="490680"/>
            <a:ext cx="1087560" cy="126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3:30:09Z</dcterms:modified>
  <cp:revision>17</cp:revision>
  <dc:subject/>
  <dc:title>PowerPoint Presentation</dc:title>
</cp:coreProperties>
</file>