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165E5-FA16-407C-B18A-45589AE16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86A33-CA96-40AF-8BB8-A0C6FD44F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D4075-43AE-4E7E-BF7D-8581ABD0B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5C179-4F1A-4C92-B442-B5BDE3203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0FF48-E2FB-4091-AED4-C47B3CFE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015BC-3383-407F-B343-FA3420274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480F6-44A5-4B1D-B76B-211BA55D4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D3F7D-FA14-45B6-85CD-8456DDAB2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445FE-5229-4903-8903-11A9F129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1B6A-3140-4C91-B492-A294C4158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D86B-030E-4573-99E7-83081C76A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9C6B-DDE0-4149-922F-FC6ABECE5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3E73-DABD-4C44-A090-CA0485D341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a:t>
            </a:r>
            <a:r>
              <a:rPr b="1" lang="tr-TR" sz="2000" spc="-1" strike="noStrike">
                <a:solidFill>
                  <a:srgbClr val="203864"/>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203864"/>
                </a:solidFill>
                <a:latin typeface="Calibri"/>
              </a:rPr>
              <a:t>ÖZEL EĞİTİM BÖLÜM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21" descr="ege-ozelegitimbolumu"/>
          <p:cNvPicPr/>
          <p:nvPr/>
        </p:nvPicPr>
        <p:blipFill>
          <a:blip r:embed="rId3"/>
          <a:stretch/>
        </p:blipFill>
        <p:spPr>
          <a:xfrm>
            <a:off x="7523280" y="666720"/>
            <a:ext cx="113976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3:30:47Z</dcterms:modified>
  <cp:revision>16</cp:revision>
  <dc:subject/>
  <dc:title>PowerPoint Presentation</dc:title>
</cp:coreProperties>
</file>