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388EC-EA37-4FF8-B2A0-4B2458EB6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E2C62-1595-4A9F-AFE1-1EAC820EA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BCA38-A94A-4F03-9969-A919B6812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B7CBE-79DF-458A-B112-A61F1F674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FC6AE-8093-4F3F-B3FC-67181A160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F0B29-EE5A-4FC5-822D-A07588BA9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8BB10-44E3-4BB1-AF86-514542EED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6F83A-6276-42C5-BC74-A10A8FCB5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633E8-32DA-4D04-9DA6-B9994432C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17386-9C09-46C8-A5DA-99714F263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FC79B-12C8-4322-8BC1-A1C32B25A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B7A77-5878-4444-A702-D21E9C5D5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A581-1AAC-4C0D-95F2-9B5B2D9150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a:t>
            </a:r>
            <a:r>
              <a:rPr b="1" lang="tr-TR" sz="2000" spc="-1" strike="noStrike">
                <a:solidFill>
                  <a:srgbClr val="203864"/>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203864"/>
                </a:solidFill>
                <a:latin typeface="Calibri"/>
              </a:rPr>
              <a:t>ÖĞRETİM TEKNOLOJİLERİ KOORDİNATÖRLÜĞÜ</a:t>
            </a:r>
            <a:endParaRPr b="0" lang="en-US" sz="20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22" descr="ogretim-tek-koor-png"/>
          <p:cNvPicPr/>
          <p:nvPr/>
        </p:nvPicPr>
        <p:blipFill>
          <a:blip r:embed="rId3"/>
          <a:stretch/>
        </p:blipFill>
        <p:spPr>
          <a:xfrm>
            <a:off x="7531200" y="534960"/>
            <a:ext cx="1417680" cy="141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Tasarim</cp:lastModifiedBy>
  <dcterms:modified xsi:type="dcterms:W3CDTF">2019-12-20T13:47:42Z</dcterms:modified>
  <cp:revision>19</cp:revision>
  <dc:subject/>
  <dc:title>PowerPoint Presentation</dc:title>
</cp:coreProperties>
</file>