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8E5B8-1D34-4CFD-9CF2-06EE2AECC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451E-E22D-4F09-B6E4-4F4B446F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DE546-DFFF-4A9E-AD21-168FB8E8E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7C805-7352-48D6-A27E-2603B8283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C732-F788-4AB5-8318-16D5A21D7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6B20-EA88-4D63-91D5-AAF30BCE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5041-DDA5-4AC1-94F8-8DC328B4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7006D-775B-4276-A08F-6AAE38DBE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FDC9-93DF-44E8-AA6D-2FDED2C6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5312-0F89-4796-A2FB-D5FECBA95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E377-1602-4939-8176-FBEBC84F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9BE27-BCE7-442F-B88E-878251643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A49E-601E-4716-B79F-456EC380E1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ÖĞRETİM TEKNOLOJİLERİ KOORDİNATÖRLÜĞ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2" descr=""/>
          <p:cNvPicPr/>
          <p:nvPr/>
        </p:nvPicPr>
        <p:blipFill>
          <a:blip r:embed="rId3"/>
          <a:stretch/>
        </p:blipFill>
        <p:spPr>
          <a:xfrm>
            <a:off x="7675560" y="457200"/>
            <a:ext cx="1209600" cy="120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3:46:43Z</dcterms:modified>
  <cp:revision>19</cp:revision>
  <dc:subject/>
  <dc:title>PowerPoint Presentation</dc:title>
</cp:coreProperties>
</file>