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47F3D-7E27-4794-AB56-0FD74854C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54755-D359-4368-A846-E3F3D9F71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520BC-2653-4101-B172-6C4E5C9D6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B5292-AADB-41E0-B49B-360CA6462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64FE5-C3CC-4B41-9074-C7433BA19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54832-9AF1-48FE-BE3F-698D3F102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3D785-0ECF-452B-AF1F-8D31D8880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DCDF5-63E6-4B2D-B9F1-3BA886CBA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1F0A5-DCD6-4955-8768-4E45F2B98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98F04-DEC2-4B0D-A183-698578206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834D7-ACB9-4159-9A24-41ACF727C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79AD4-0A5F-484F-8698-4CA25F677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B6B3-2BC3-4D2C-ACAE-C25968CF73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GE ÜNİVERSİTESİ</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ÖĞRENCİ KONSEYİ</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5" descr="ogrenci-konsey"/>
          <p:cNvPicPr/>
          <p:nvPr/>
        </p:nvPicPr>
        <p:blipFill>
          <a:blip r:embed="rId3"/>
          <a:stretch/>
        </p:blipFill>
        <p:spPr>
          <a:xfrm>
            <a:off x="7824960" y="500040"/>
            <a:ext cx="1258560" cy="12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0T12:32:43Z</dcterms:modified>
  <cp:revision>11</cp:revision>
  <dc:subject/>
  <dc:title>PowerPoint Presentation</dc:title>
</cp:coreProperties>
</file>