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A36699-39D6-430C-9B98-D5DD96E282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CA215-EC1D-4239-B200-234E1759E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13B147-B35F-415A-B9A7-3C62F515C7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2CC23E-1EF2-4FE7-992C-8139868D35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576A6-C5F3-4C2B-B9D4-25CC26046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36911-FEEF-4780-AC35-66E24ADEE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3A282-4841-4F67-8CC1-4FEF1857E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92BC2-6C6B-440A-8ACC-4E736EF44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EC42E-5E86-433C-9670-058D47BB1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7A404-F3CC-4174-A5F9-0763D6A41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884DA-E867-4410-884B-C8BD3344A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164F6-D536-4F77-B284-C85E5F811A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39618-9A92-44FD-9E8C-508D5B57F82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88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EGE ÜNİVERSİTES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03864"/>
                </a:solidFill>
                <a:latin typeface="Calibri"/>
              </a:rPr>
              <a:t>KAN MERKEZİ</a:t>
            </a:r>
            <a:endParaRPr b="0" lang="en-US" sz="24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Picture 15" descr="kan-merkezi"/>
          <p:cNvPicPr/>
          <p:nvPr/>
        </p:nvPicPr>
        <p:blipFill>
          <a:blip r:embed="rId3"/>
          <a:stretch/>
        </p:blipFill>
        <p:spPr>
          <a:xfrm>
            <a:off x="7483320" y="504720"/>
            <a:ext cx="1447920" cy="1446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11:48:51Z</dcterms:created>
  <dc:creator>Microsoft Office User</dc:creator>
  <dc:description/>
  <dc:language>en-US</dc:language>
  <cp:lastModifiedBy>GTasarim</cp:lastModifiedBy>
  <dcterms:modified xsi:type="dcterms:W3CDTF">2019-12-20T12:28:03Z</dcterms:modified>
  <cp:revision>9</cp:revision>
  <dc:subject/>
  <dc:title>PowerPoint Presentation</dc:title>
</cp:coreProperties>
</file>