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A3496-D4C1-46FE-9EDD-078417F33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21CEA-B9F9-4992-A2BE-D7C8FA20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7FFCE-411D-4A0A-AEDB-44A826353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3F0AD-8BAD-4667-B2C6-14F473857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269C-42DD-45EA-AA67-80ECAACEF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7C417-B4DA-42D2-ABD4-75B49D874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C1A6A-8DD8-4AE1-A82A-52500DC5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AFF6-7268-436C-817F-1DDE2AB3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1DB7D-8CF0-42DA-919F-DAAD3A5FF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7897-BA65-4B92-B2A6-1784FDA58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9FD0-9727-45A0-BEDB-1485E8B0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9743-C4B6-4514-99B7-6D96345C8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8F7F-FF1E-4EB3-94A4-3987A9ADC5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KAN MERKEZ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4" descr="kan-merkezi"/>
          <p:cNvPicPr/>
          <p:nvPr/>
        </p:nvPicPr>
        <p:blipFill>
          <a:blip r:embed="rId3"/>
          <a:stretch/>
        </p:blipFill>
        <p:spPr>
          <a:xfrm>
            <a:off x="7850160" y="53028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2:27:25Z</dcterms:modified>
  <cp:revision>10</cp:revision>
  <dc:subject/>
  <dc:title>PowerPoint Presentation</dc:title>
</cp:coreProperties>
</file>