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8D599-2B7F-4A52-A0A2-73AE8F5C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F5F8C-5125-4209-876E-5BAA5ADD5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09BB4-C981-406D-914E-E35836526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D2E7-A1B3-4597-AD1D-28078E81E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3D68-C88D-4A0E-94F3-1430992D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FC92-EFAF-4F6A-9E95-48212A29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A108A-9587-40CA-A575-4DE9BA227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67C80-C5FF-4B6B-AF2E-682295464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7DD30-7B6A-45EA-90B0-86EED0E94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3DB8-CAD3-488F-BA34-BDA76CC6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01FCB-E3F7-41A2-80CD-B72275A9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4EDF-71E1-49CE-B2F0-9F5AD3143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5987-995F-44CF-AB60-E8C6AE5A5C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KADIN ÇALIŞMALAR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3" descr="kadincalismalari"/>
          <p:cNvPicPr/>
          <p:nvPr/>
        </p:nvPicPr>
        <p:blipFill>
          <a:blip r:embed="rId3"/>
          <a:stretch/>
        </p:blipFill>
        <p:spPr>
          <a:xfrm>
            <a:off x="7505640" y="539640"/>
            <a:ext cx="121932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2:18:19Z</dcterms:modified>
  <cp:revision>9</cp:revision>
  <dc:subject/>
  <dc:title>PowerPoint Presentation</dc:title>
</cp:coreProperties>
</file>