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CDBB6-14AA-4628-824A-1B45FE230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2768B-DAA6-4AE4-AD64-A8E8FD0EE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1258C-4DEF-4C57-91B8-EAFDB90AB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DF411-FFB6-4DD8-AC9D-7C3C69C4F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FC334-B7A7-4FC1-80AF-8D41C5643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A10CC-4F92-4A15-85D5-A14C65A73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D3E48-2FB1-4A75-A06F-CA63C0E84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45BE6-8ECC-44D4-9B84-68B347047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BDA19-B26B-4690-A894-B3E5BE06B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8E98E-80D5-4E2F-8CCA-08CB70E1F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590B0-0A4A-4E83-8830-8F1DE17FC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04C67-3BC3-46EE-AA87-23B53DB29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8873-96A3-44D6-82BD-EFB85B84030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03864"/>
                </a:solidFill>
                <a:latin typeface="Calibri"/>
              </a:rPr>
              <a:t>KADIN ÇALIŞMALARI</a:t>
            </a:r>
            <a:endParaRPr b="0" lang="en-US" sz="24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3" descr="kadincalismalari"/>
          <p:cNvPicPr/>
          <p:nvPr/>
        </p:nvPicPr>
        <p:blipFill>
          <a:blip r:embed="rId3"/>
          <a:stretch/>
        </p:blipFill>
        <p:spPr>
          <a:xfrm>
            <a:off x="7245360" y="614520"/>
            <a:ext cx="1479600" cy="147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Tasarim</cp:lastModifiedBy>
  <dcterms:modified xsi:type="dcterms:W3CDTF">2019-12-20T12:19:05Z</dcterms:modified>
  <cp:revision>8</cp:revision>
  <dc:subject/>
  <dc:title>PowerPoint Presentation</dc:title>
</cp:coreProperties>
</file>