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78F71-50BA-4F72-9049-05C7AD1C0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977FC-0FFA-4A0C-B813-07672DD9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48592-5AEE-435C-998B-876738E64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77B1E-73CF-4BD2-9FBB-5C2DB9BF7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35C8D-1E47-46CE-9758-7323AE15A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6424E-C0B6-464C-B766-29811BCAE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E3D1C-5717-4DE2-B345-9F113BDA0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29687-2C3D-471E-AE42-9ED6E7BDA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9BD18-AF26-4659-9704-5D19CF81F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004F1-5655-4751-82E2-56AF8D29B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88E7-3525-422D-96FA-042928939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5B77-964D-4814-94E4-7201A66C1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54A3-6ABD-4B02-AC8B-7A2221ADEA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Calibri"/>
              </a:rPr>
              <a:t>ETNOGRAFYA MÜZESİ</a:t>
            </a:r>
            <a:endParaRPr b="0" lang="en-US" sz="2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8" descr=""/>
          <p:cNvPicPr/>
          <p:nvPr/>
        </p:nvPicPr>
        <p:blipFill>
          <a:blip r:embed="rId3"/>
          <a:stretch/>
        </p:blipFill>
        <p:spPr>
          <a:xfrm>
            <a:off x="7478640" y="351000"/>
            <a:ext cx="1403280" cy="140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28:26Z</dcterms:created>
  <dc:creator>Microsoft Office User</dc:creator>
  <dc:description/>
  <dc:language>en-US</dc:language>
  <cp:lastModifiedBy>GTasarim</cp:lastModifiedBy>
  <dcterms:modified xsi:type="dcterms:W3CDTF">2019-12-20T12:14:43Z</dcterms:modified>
  <cp:revision>13</cp:revision>
  <dc:subject/>
  <dc:title>PowerPoint Presentation</dc:title>
</cp:coreProperties>
</file>