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39FA5-2990-4985-A602-95B2917BE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D2EFE-BE3C-447A-A3B3-C5B3DADF9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328BB-9113-426E-8AFC-4DC0F3BA2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9090F-6974-4F7A-A166-5F76128BB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DA46C-8802-4537-9A62-164C94645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AA0CD-8948-4296-A8E3-FF5226728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327A2-C2BE-476A-892D-6CC54B304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6FA83-61E7-4835-B1B0-16EC30931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BF822-9C38-4183-BFF5-029D3620F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B20A7-CBFD-4FCA-9D1F-D1C55010A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72D75-90AB-429D-97A2-1D0135AD3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CCD14-58CA-4661-A033-4E3B3743A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D33F-E255-4C22-8CF9-454170BF2F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03864"/>
                </a:solidFill>
                <a:latin typeface="Calibri"/>
              </a:rPr>
              <a:t>ENGELSİZ EGE BİRİMİ</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Resim 3" descr=""/>
          <p:cNvPicPr/>
          <p:nvPr/>
        </p:nvPicPr>
        <p:blipFill>
          <a:blip r:embed="rId3"/>
          <a:stretch/>
        </p:blipFill>
        <p:spPr>
          <a:xfrm>
            <a:off x="7367760" y="582480"/>
            <a:ext cx="1542960" cy="154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Tasarim</cp:lastModifiedBy>
  <dcterms:modified xsi:type="dcterms:W3CDTF">2019-12-20T12:03:37Z</dcterms:modified>
  <cp:revision>6</cp:revision>
  <dc:subject/>
  <dc:title>PowerPoint Presentation</dc:title>
</cp:coreProperties>
</file>