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AB924-E814-4DCE-BD21-2C3740FF5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2CC4A-BBA7-4561-8EA2-EC61F9FE7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DD385-6A86-47A9-B6E8-1D0549B07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366C3-D92B-4740-899F-4C49B206B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3A994-D443-4174-871B-C2D100A81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CBD96-09DD-4B20-A095-0D922A156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AF0CB-A443-4912-A544-B7E37D6C4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AA691-1F8B-49FF-B44B-DC12B8FCA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C1591-15ED-4F61-820F-96AE52642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92E17-F3A6-490C-93FB-608755D37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DFA26-1C4A-46BF-BFA1-ACE1DD90F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6AEF9-749F-4844-B59E-56827AEAF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2BF2-65AD-4807-B6C8-8840B46380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alibri"/>
              </a:rPr>
              <a:t>ENGELSİZ EGE BİRİMİ</a:t>
            </a:r>
            <a:endParaRPr b="0" lang="en-US" sz="24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8" descr=""/>
          <p:cNvPicPr/>
          <p:nvPr/>
        </p:nvPicPr>
        <p:blipFill>
          <a:blip r:embed="rId3"/>
          <a:stretch/>
        </p:blipFill>
        <p:spPr>
          <a:xfrm>
            <a:off x="7854840" y="442800"/>
            <a:ext cx="1262160" cy="12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4T08:51:39Z</dcterms:modified>
  <cp:revision>8</cp:revision>
  <dc:subject/>
  <dc:title>PowerPoint Presentation</dc:title>
</cp:coreProperties>
</file>