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F806B-B8EF-40C5-8D5D-599817DF1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737F0-B230-4D01-84BE-E569811F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5BE19-22AE-4037-9331-53447BBDC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AD25F-7E9B-451C-9E11-70C803155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7D96-1C3A-4E4D-AF86-7EDE8004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F89B-9FF5-4CA1-A8DC-6718A906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AC754-2404-40B6-86BF-DD479B85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4952-8D86-4E8F-A1A5-4F1A1DF9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3AD09-4AFB-41BB-BE8B-26F2DEBB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E51C-A86E-4205-910B-4881CE84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0C1A-21D1-4483-9759-0C94C596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EE15-2C08-4683-ADA8-C6677923D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DE16-852F-4690-B89D-97D4854E28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EGE ÜNİVERSİTESİ TV</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4" descr="ege-tv"/>
          <p:cNvPicPr/>
          <p:nvPr/>
        </p:nvPicPr>
        <p:blipFill>
          <a:blip r:embed="rId3"/>
          <a:stretch/>
        </p:blipFill>
        <p:spPr>
          <a:xfrm>
            <a:off x="7634160" y="554040"/>
            <a:ext cx="143064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1:55:18Z</dcterms:modified>
  <cp:revision>5</cp:revision>
  <dc:subject/>
  <dc:title>PowerPoint Presentation</dc:title>
</cp:coreProperties>
</file>