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BF598-395E-42F4-8957-57C418624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2283B-8760-4473-BF87-0F1B97EDF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58B01-ABDA-4C7B-9F4D-A301CBF2B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EFB8D-0A26-4E12-9ED5-999C4CB4B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55E7F-5133-4EDB-A612-A0422668B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62134-10AF-4122-BE4C-5E9259B08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D6403-D63C-4A31-BC57-5BE4D1501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383BC-7A03-4E81-89F8-211CE8E5C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9F627-3B5A-41BB-BD74-DB1C9710D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864CD-A164-439B-B2FB-023D12D14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A8B5E-BAA8-453B-9F6F-C1D8ED76A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32742-100A-4F22-9B0D-D72D71643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3BB4-BEAC-45D4-8674-0179BA1E38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EGE ÜNİVERSİTESİ TV</a:t>
            </a:r>
            <a:endParaRPr b="0" lang="en-US" sz="32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2" descr="ege-tv"/>
          <p:cNvPicPr/>
          <p:nvPr/>
        </p:nvPicPr>
        <p:blipFill>
          <a:blip r:embed="rId3"/>
          <a:stretch/>
        </p:blipFill>
        <p:spPr>
          <a:xfrm>
            <a:off x="7464600" y="498600"/>
            <a:ext cx="1260360" cy="126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7:53:35Z</dcterms:created>
  <dc:creator>Microsoft Office User</dc:creator>
  <dc:description/>
  <dc:language>en-US</dc:language>
  <cp:lastModifiedBy>GTasarim</cp:lastModifiedBy>
  <dcterms:modified xsi:type="dcterms:W3CDTF">2019-12-20T11:53:43Z</dcterms:modified>
  <cp:revision>6</cp:revision>
  <dc:subject/>
  <dc:title>PowerPoint Presentation</dc:title>
</cp:coreProperties>
</file>