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066B1-4D06-45CA-B5CB-C1A957C24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FADE-DBFF-47EC-90A3-D51537E99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901E5-14F6-4F93-AB27-C32D3CDE5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4770C-42BB-4D0B-81B6-750A6D6B5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91F35-CD74-45C4-8B6F-CAA897BB8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234A8-CAFF-4FE8-A784-865A1E9D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71E4-1E67-4BEA-81DA-AE46AFC34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EA0EA-C0E6-4860-A6DD-31F8FB52F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95EB3-56E4-442F-9D2A-211A6AB9E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FD621-A39C-4119-B498-90B2DC0FF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CE0D-A814-4110-B124-A0EF0A70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7190-0994-488D-866A-D0439642D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7BDA-4B1B-4977-BDFC-EA53A74975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a:t>
            </a:r>
            <a:r>
              <a:rPr b="1" lang="tr-TR" sz="2000" spc="-1" strike="noStrike">
                <a:solidFill>
                  <a:srgbClr val="203864"/>
                </a:solidFill>
                <a:latin typeface="Calibri"/>
              </a:rPr>
              <a:t>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203864"/>
                </a:solidFill>
                <a:latin typeface="Calibri"/>
              </a:rPr>
              <a:t>SPOR KULUB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572240" y="546120"/>
            <a:ext cx="1400400" cy="172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3-09-15T08:38:49Z</dcterms:modified>
  <cp:revision>22</cp:revision>
  <dc:subject/>
  <dc:title>PowerPoint Presentation</dc:title>
</cp:coreProperties>
</file>