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B8E14-ECF7-4F89-B540-462373971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F22A5-A6ED-427D-8675-2C4B6D61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8EA06-ED55-4A54-B2FD-0AA516D20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ABFBE-9E47-46F2-B5B0-2572D9D0F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B9E8E-15D3-4617-A193-A16B1EA77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DA0C3-05F9-48CE-90D4-848830381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39A83-430C-40F8-814E-660306E79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CF2E6-A574-4603-B736-C69ED825F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3B143-FCF0-4A5E-A129-1E1590DE3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FF15E-5EF9-40D1-9FF8-C88AC4148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8724-8DFF-43A4-81FE-8D6FA6D6F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3F30E-8E16-4F3A-8821-AB5CC7386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EFD5-97B7-4FEA-AC56-53B3ADF1E7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 SAĞLIK BİLİMLERİ FAKÜL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EBELİK BÖLÜMÜ</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3" descr="ebelik-bolumu"/>
          <p:cNvPicPr/>
          <p:nvPr/>
        </p:nvPicPr>
        <p:blipFill>
          <a:blip r:embed="rId3"/>
          <a:stretch/>
        </p:blipFill>
        <p:spPr>
          <a:xfrm>
            <a:off x="7675560" y="503280"/>
            <a:ext cx="1222200" cy="122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4T09:43:16Z</dcterms:modified>
  <cp:revision>15</cp:revision>
  <dc:subject/>
  <dc:title>PowerPoint Presentation</dc:title>
</cp:coreProperties>
</file>