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BF92F-2972-41D2-9B28-47451FD23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CFB12-57C7-457C-8D76-A6433E8CA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20331-3C8B-45FA-A708-F8A9349EC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31F5E-85DB-4A07-B9FF-0365CE21F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FF4D9-D6A9-411B-B0FA-6D0633481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B8D29-B4A9-4C20-A8AE-842D706DF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2156E-9ED3-4058-949B-2BD4134C6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91D23-F529-4EB7-9B64-745253227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B2275-1D52-4983-9C5A-825D06B06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23FB3-FAA5-4728-B708-0AD782014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2F05B-FC65-4229-A019-6479EA53C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65433-98D0-42BE-8A69-3CBABADA0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B14E-913B-449F-9819-7AF305E182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a:t>
            </a:r>
            <a:r>
              <a:rPr b="1" lang="tr-TR" sz="2000" spc="-1" strike="noStrike">
                <a:solidFill>
                  <a:srgbClr val="203864"/>
                </a:solidFill>
                <a:latin typeface="Calibri"/>
              </a:rPr>
              <a:t>İ SAĞLIK BİLİMLERİ FAKÜLTES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203864"/>
                </a:solidFill>
                <a:latin typeface="Calibri"/>
              </a:rPr>
              <a:t>BESLENME ve DİYETETİK BÖLÜMÜ</a:t>
            </a:r>
            <a:endParaRPr b="0" lang="en-US" sz="20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8" descr="beslenme-bolumu"/>
          <p:cNvPicPr/>
          <p:nvPr/>
        </p:nvPicPr>
        <p:blipFill>
          <a:blip r:embed="rId3"/>
          <a:stretch/>
        </p:blipFill>
        <p:spPr>
          <a:xfrm>
            <a:off x="7707240" y="619200"/>
            <a:ext cx="1463760" cy="14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3:01:12Z</dcterms:modified>
  <cp:revision>13</cp:revision>
  <dc:subject/>
  <dc:title>PowerPoint Presentation</dc:title>
</cp:coreProperties>
</file>