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3EEB-3EDF-4CB8-8C0B-5A6425730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D4E4-984D-416C-9775-E409E35CE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D27BF-7640-4C02-B53B-C704AE74C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DA1F-3CA6-4218-AD12-CD3044C6C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D4E0-1BE0-44DF-9B24-3BD3A989F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0A0B-E520-4CE8-A779-2A1E4A12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691B-5D95-4477-940E-2DD454D60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1FA1-A371-4109-9DA9-D862FE80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2E60-BAF5-406C-A972-E33DD9B8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13A0-C813-44B2-81B0-02BEE130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104B-DC18-498A-8743-C0EA8B85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BEA6-833C-4448-8A75-1FA7F0D17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5089-8848-412E-B596-163AA6622A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 SAĞLIK BİLİMLERİ FAKÜL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BESLENME VE DİYETETİK BÖLÜM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7" descr="beslenme-bolumu"/>
          <p:cNvPicPr/>
          <p:nvPr/>
        </p:nvPicPr>
        <p:blipFill>
          <a:blip r:embed="rId3"/>
          <a:stretch/>
        </p:blipFill>
        <p:spPr>
          <a:xfrm>
            <a:off x="7675560" y="495360"/>
            <a:ext cx="1228680" cy="122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2:54:54Z</dcterms:modified>
  <cp:revision>13</cp:revision>
  <dc:subject/>
  <dc:title>PowerPoint Presentation</dc:title>
</cp:coreProperties>
</file>